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055-DC95-44B3-85FF-B65CEEBC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37E-1E6F-4851-8053-2C62765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48C-911F-479D-ACAD-89484CA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31B-BA49-4E46-B9EA-DC510881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32D6-3327-4F4B-A8C1-73145CD9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8ED0-0A9D-46D3-9C12-9C5B9E4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753-3747-4104-94F1-0251AF3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7927-29BE-41B1-91EB-FE2D3A82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697-DF62-4C2E-968B-7E98ED22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A7D8-50CE-4B0A-8C91-96D56A4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E77-F245-4F77-AC32-762E8559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19A-500D-4E8C-849C-CA821C0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4CB5-5738-4809-9783-E20FFC2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017-ED97-4DB2-9D61-4ECA5E5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B473-4184-4904-99A9-BAB58E8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6BD-0B12-413C-81A4-48A9F651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392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7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392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3E08-0045-4047-8BDF-73D57CBB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3A4-78A4-4320-94E2-C9AA6EE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C5B-7D4E-4A2F-BC15-16BAA906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C02-A531-4C8E-A806-7AC09128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431-1B06-421A-A787-2F6103D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E4E-827B-44D3-AA35-6FB8FF4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E87-8C0A-420E-8EED-2084351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F28-0CCF-46DA-9690-1949FC7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F19-AA03-4F0C-86ED-C80887627FFC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SFZP_H_RGB_NEW"/>
          <p:cNvPicPr/>
          <p:nvPr/>
        </p:nvPicPr>
        <p:blipFill>
          <a:blip r:embed="rId2"/>
          <a:stretch/>
        </p:blipFill>
        <p:spPr>
          <a:xfrm>
            <a:off x="468360" y="1538280"/>
            <a:ext cx="374328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Obrázek 11" descr="Mozaika_prezentace_V.jpg"/>
          <p:cNvPicPr/>
          <p:nvPr/>
        </p:nvPicPr>
        <p:blipFill>
          <a:blip r:embed="rId3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851-9B0D-4144-BB50-B6E6FEE825A7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377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OPŽP 2014 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068280"/>
            <a:ext cx="7391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Arial Unicode MS"/>
              </a:rPr>
              <a:t>Veřejné zakázky v OPŽP 2014 + a nejčastější pochybení</a:t>
            </a:r>
            <a:endParaRPr b="1" lang="en-US" sz="3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300640"/>
            <a:ext cx="70563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 Unicode MS"/>
              </a:rPr>
              <a:t>Tomáš Mikuleck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Odbor prá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Druhy výběrových řízení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Uzavřená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716400" indent="-3207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uze pokud se jedná o VZ malé hodno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716400" indent="-3207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ajuje se písemnou výzvou k podání nabídky minimálně 3 zájemcům → veřejný zadavatel uveřejní výzvu ve stejný den na svém profil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Otevřená výz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716400" indent="-3207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ajuje se uveřejněním oznámení výběrového řízení na profilu zadavatele nebo odesláním formuláře „Oznámení o zakázce“ k uveřejnění do VVZ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716400" indent="-3207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rozhodná ta skutečnost, která nastala dřív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AEF-E0BB-4D79-8B48-45148400902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341360"/>
            <a:ext cx="82152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Druhy výběrových řízení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Elektronické tržišt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33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vinně v případě komodit, které upravuje Příloha č.1 k usnesení vlády ČR č. 451 ze dne 15. 6. 2011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např. fotokopírovací stroje, zásobníky tonerů, mobilní telefony, zápisníky, fixy atd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33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davatel postupuje podle výše uvedeného usnesení vlá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Obdoba JŘBÚ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33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 splnění podmínek dle § 23 odst. 4 až 6 a 8 záko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33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ajuje se odesláním písemné výzvy k jednání jednomu/omezenému počtu zájemc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77160" indent="-332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řádně odůvodnit použití tohoto postup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9920" indent="-25992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E14D-351D-4D8B-9FE8-90B30C72A42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484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Vícepráce/víceslužb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bjektivně nepředvídatelné okolnosti (bude upraveno na </a:t>
            </a:r>
            <a:r>
              <a:rPr b="0" i="1" lang="cs-CZ" sz="2400" spc="-1" strike="noStrike">
                <a:solidFill>
                  <a:srgbClr val="000000"/>
                </a:solidFill>
                <a:latin typeface="Arial Unicode MS"/>
              </a:rPr>
              <a:t>zadavatel jednající s náležitou péči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)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zbytné pro provedení původní veřejné zakázk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dané stávajícímu dodavateli, poku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mohou být technicky nebo ekonomicky oddělené od původní veřejné zakázky, pokud by toto oddělení způsobilo závažnou újmu zadavateli neb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ddělení je možné, ale dodatečné práce/služby jsou zcela nezbytné pro dokončení původní veřejné zakázky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427320" indent="-33912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celkový rozsah nepřekročí 30 % ceny původní zakázk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82E-1218-488D-9594-5B3E3A67124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341000"/>
            <a:ext cx="8215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právnění zadavate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Jednání o nabídká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603720" indent="-221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usí být vyhrazeno v zadávacích podmínká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603720" indent="-221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efinovat způsob a zásady jednání s uchazeč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603720" indent="-221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působ výběru uchazečů pro další fáze jednání, rozhodne-li se zadavatel postupně omezovat počet uchazeč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603720" indent="-221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tevírání obálek → posouzení a hodnocení nabídek → předběžný výsledek hodnocení → jednání → protokol z jednání/protokol o konečném výsledku hodnoce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603720" indent="-221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ožné jednat o všech podmínkách, zejména těch, které jsou předmětem hodnocení → zadavatel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nesmí měnit zadávací podmínk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9920" indent="-25992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1B50-88FA-432F-AF98-0D8193E9EF2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právnění zadavate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ožnost provést hodnocení nabídek před jejich posouzení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ožnost požadovat doplnění/objasnění nabídek →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nesmí být změněna nabídková cena a/nebo údaje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které jsou předmětem hodnoce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rušení výběrového řízení s uvedením výhrady tohoto zrušení v zadávacích podmínká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779-50DD-45AF-9C64-96EE44C88C1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Ustanovení společná pro veřejné zakázky zadávané dle zákona i mimo režim záko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informace, že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projekt je spolufinancován ze zdrojů EU,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uvést symbol EU (vlajka) spolu s odkazem na E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slovy vypsat „Evropská unie“) a odkaz na OPŽP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i stanovení základního hodnotícího kritéria „ekonomická výhodnost nabídky“ stanovit váhu dílčích hodnotících kritérií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 algn="just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 a/nebo služby: minimálně 60 % nabídková ce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 algn="just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: minimálně 80 % nabídková ce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FD45-FD7F-458F-B2EF-5D480528D8E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Ustanovení společná pro veřejné zakázky zadávané dle zákona i mimo režim záko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ubdodavatel, který prokázal určitou část kvalifikace za dodavatele, se musí podílet na plnění veřejné zakáz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rozsahu, v jakém prokázal kvalifikaci → výměna subdodavatel možná pouze v případě, že nový subdodavatel prokáže kvalifikaci ve stejném rozsahu jako původní subdodavatel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eřejná zakázka na stavební práce musí obsahova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zadávacích podmínkách obchodní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např. pojištění díla, zajištění závazku atd.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0AE-95D2-4A93-9FBE-75D4087EF07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Ustanovení společná pro veřejné zakázky zadávané dle zákona i mimo režim záko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ektorový zadavatel musí v užším řízení vyzvat k podání nabídky všechny  zájemce, kteří podali žádost o úča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 prokáží kvalifikac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užití elektronické aukce – pouze se souhlasem SFŽP Č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uchování dokumentace nejméně po dobu 10 le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d finančního ukončení projektu, zároveň však alespoň do 31. 12. 2026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2DF-953D-4606-B817-5DB4041EC05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65F6-9D8E-4B0F-B3B2-14A720C54C8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ejčastější pochybení před zahájením zadávacího řízení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dostatečné vymezení předmětu zakázky a zadávacích podmínek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správné stanovení druhu veřejné zakázky a předpokládané hodnoty veřejné zakáz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správné dělení zakázek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novení nevhodných kvalifikačních předpokladů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novení a specifikace nevhodných hodnotících kritérií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zákonná značková specifikac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1. Nedostatečné vymezení předmětu zakázky a zadávacích podmínek</a:t>
            </a:r>
            <a:br>
              <a:rPr sz="2400"/>
            </a:b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9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dostatečná projektová příprava – opomenutí části stavebních prací/dodávek/služeb, návrh nerealizovatelné postupy/technologie – viz. dále vícepráce (nová úprava od 6. 3. 2015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dostatečně vymezené dodací a technické podmín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matečné vymezení podmínek na zpracování nabídkové ceny (požadavek na zahrnutí dalších položek neuvedených v ZD, přičemž každý uchazeč má individuálně posoudit o jaké jd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A97-E219-403C-876D-305CB724A44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Základní předpisy pro zadávání veřejných zakázek v režimu záko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83920"/>
            <a:ext cx="8215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ředpisy EU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řízení EP a Rady (EU) č. 1303/2013 o společných ustanoveních o ERDF, ESF, FS, EAFRD a EMFF,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 obecných ustanoveních o ERDF, ESF, FS a EMFF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 o zrušení nařízení Rady (ES) č. 1083/2006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měrnice EP a Rady 2014/24/EU o zadávání veřejných zakázek a o zrušení směrnice 2004/18/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měrnice EP a Rady 2014/25/EU o zadávání zakázek subjekty působícími v odvětví vodního hospodářství, energetiky, dopravy a poštovních služeb a o zrušení směrnice 2004/17/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873-AEF7-4471-96BE-BFFF3636051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2. Nesprávné stanovení druhu veřejné zakázky a její předpokládané hodnot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8760" y="1413000"/>
            <a:ext cx="8215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90000"/>
              </a:lnSpc>
              <a:spcBef>
                <a:spcPts val="29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29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dlimitní veřejné zakázky na dodávky a služby jsou chybně označeny jako podlimitní zakázky na stavební práce (případně jako zakázky malého rozsahu)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„zahradnické“ služby označovány jako krajinné úpravy – stavební prác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7175-2B01-4679-8178-115FE6EE2D9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Limity veřejných zakázek dle záko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Nadlimitní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finanční limity dle nařízení vlády č. 77/2008 Sb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/služby – 3.395.000,- Kč (ČR a p.o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5.244.000,- Kč (ÚSC, PO, dotovaný z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 – 131.402.000,-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odlimitní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/služby – nejméně ≥ 2.000.000,-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 – nejméně ≥ 6.000.000,-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Malého rozsah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/služby – nedosáhne &lt; 2.000.000,-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 – nedosáhne &lt; 6.000.000,-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820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davatel není povinen je zadávat dle zákon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6FF1-DAE7-45ED-ABF8-3043CC70D11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3. Nesprávné dělení zakázek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dlimitní zakázku na stavební práce na několik objektů nelze rozdělit na více podlimitníc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kud mezi jednotlivými plněními prokazatelně existuje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věcná, časová, místní i funkční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ouvislost, jedná se o jednu veřejnou zakázku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3AA4-D084-43F0-A067-1B3F768BDD0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4. Stanovení nevhodných kvalifikačních předpokladů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90000"/>
              </a:lnSpc>
              <a:spcBef>
                <a:spcPts val="15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15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novení takových předpokladů, které neodpovídají předmětu a rozsahu zakáz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90000"/>
              </a:lnSpc>
              <a:spcBef>
                <a:spcPts val="150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uvedení „limitních“ hodnot těchto předpokladů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B70-38B5-4497-9AB9-20BC6BE1407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5. Stanovení a specifikace nevhodných hodnotících kritérií (1/2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Reference – zkušenost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lán organizace výstavby (bez další specifikac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Termín (bez další specifikac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ankce (od 1. 4. 2012 zákonem výslovně zakázáno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EAB-650B-44D5-875E-6C9712FADD6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BD88-5B86-474B-9FDA-763B715E73F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760" y="1413000"/>
            <a:ext cx="82152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ílčí hodnotící kritéria: cena (60%), termín (40%). Vítězí nabídka s cenou 19 milionů a termínem zhotovení 3 měsíce, jako druhá se umístila nabídka s cenou 14 milionů a termínem 5 měsíců a jako třetí nabídka s cenou 13,5 milionů a termínem 6 měsíců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Je toto ekonomicky výhodné?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D 5. Stanovení a specifikace nevhodných hodnotících kritérií (2/2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 Unicode MS"/>
              </a:rPr>
              <a:t>Nejčastější pochybení vzniklá v průběhu zadávacího řízení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transparentní omezení počtu kvalifikovaných zájemců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řazení nabídek z důvodu nesplnění formálních požadavků (např. nesvázaná nabídka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dodržení zásady rovného zacházení (vyzva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 doplnění/nevyzvat vždy všechny uchazeč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dodržování zákonných lhůt nebo jejich nesprávné počítání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odeslání oznámení o výběru nejvhodnější nabídky uchazečům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odeslání rozhodnutí o vyloučení uchazečům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eodeslání oznámení o uzavření smlouv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 výzvě k předložení nabídek chybí datum vyvěš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 sejmutí z úřední des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3A6-198A-4011-9871-164C5FDF11F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Změny smluv na plnění VZ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34136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Je možné provádět pouze nepodstatné změny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měna VZ během doby trvání je podstatná, pokud by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rozšířila předmět VZ o služby (dodávky, stavební práce), které původně nebyly předpokládány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 použití v původním zadávacím řízení umožnila účast  jiných uchazečů než těch, kteří byli původně připuštěni, nebo mohla ovlivnit výběr nejvhodnější nabídky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působem, který nebyl v podmínkách původní zakázky předpokládán, měnila ekonomickou rovnováhu smlouvy ve prospěch vybraného uchazeč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6760" indent="-26676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87BE-9CBD-4337-88BB-14E547299C5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Změny smluv na plnění VZ - příklady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4920" y="1341360"/>
            <a:ext cx="8248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ícepráce - Musí být splněny podmínky pro použití jednacího řízení bez uveřejnění podle 23 odst. 7 ZVZ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éněpráce - Musí zůstat zachováno pořadí uchazečů: nemůže být ze zakázky vyjmuta část, kterou měl vítězný uchazeč „naceněnu“ méně než uchazeč jiný a při hodnocení nabídek bez této části by zvítězil uchazeč jiný. např.: zakázka má 2 části vítěz obě nacení za 5 mil. Kč, druhý nacení část A za 4,9 mil. a část B za 5,2 mil. Následně nemůže dojít k situaci, že by byla realizována pouze část A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termínové změny především v případě, když termín byl jedním z hodnotících kritérií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80000"/>
              </a:lnSpc>
              <a:spcBef>
                <a:spcPts val="119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měny dodavatele (přípustné pouze v případě právního nástupce dodavatel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EAD7-9D5F-4C65-A191-4831881D077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1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1341000"/>
            <a:ext cx="8215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odmínky jednacího řízení bez uveřejnění: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posud podle § 23 odst. 7 písm. a) ZVZ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by potřeba dodatečných stavebních prací/služeb vznikla v důsledku objektivně nepředvídaných okolností“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ě: pokud nutnost dodatečných stavebních prací/služeb vznikne v důsledku „okolností, které zadavatel jednající s náležitou péčí nemohl předvídat“ (po zadavateli není možné požadovat vyšší než obvyklou míru péče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výšení limitu pro dodatečné stavební práce/služby dle ustanovení § 23 odst. 7 písm. a) bodu 3. ZVZ, a to z původních 20 % na 30 %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DC7-C768-4C01-928A-B0267D20882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Základní předpisy pro zadávání veřejných zakázek v režimu záko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412640"/>
            <a:ext cx="8215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ředpisy ČR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ákon č. 137/2006 Sb., o veřejných zakázkách →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d 17. dubna 2016 má vstoupit v účinnost Zákon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 zadávání veřejných zakázek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ařízení vlády č. 77/2008 Sb., o stanovení finančních limitů pro účely zákona o veřejných zakázkác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hláška č. 133/2012 Sb., o uveřejňování vyhlášení pro účely zákona o veřejných zakázkách a náležitostech profilu zadavate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hláška č. 232/2012 Sb., o podrobnostech rozsahu odůvodnění účelnosti veřejné zakázky a odůvodnění veřejné zakáz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444-6B5D-48CB-B920-DC36549B99C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2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Obdržení jediné nabídky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říve dle § 71 odst. 6 ZVZ zadavatel obálku s touto nabídkou neotevíral) a podle § 84 odst. 1 písm. e) ZVZ zrušil zadávací řízení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ě je zrušení zadávacího řízení zákonem ponecháno jako možnost (§ 84 odst. 3 písm. b) ZVZ) (Tato výhrada však musí být uvedena v zadávacích podmínkách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FB0-E7D9-434C-9550-A117DA5DC57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3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Dílčí hodnotící kritéria u ekonomické výhodnosti nabídk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případě, že se zadavatel rozhodne hodnotit nabídky dle jejich ekonomické výhodnosti, je na základě ustanovení § 78 odst. 4 ZVZ povinen stanovit dílčí hodnotící kritéria, přičemž toto ustanovení přináší demonstrativní výčet těchto kritérií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ela ZVZ rozšířila jedno stávající dílčí hodnotící kritérium, když původní „vliv na zaměstnanost osob se zdravotním postižením“ rozšířila na „vliv na zaměstnanost osob se zdravotním postižením a osob se ztíženým přístupem na trh práce“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55B-6EF2-40FD-9971-E658DC34671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4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demonstrativním výčtu dílčích hodnotících kritérií jedno kritérium nové: „Dílčími hodnotícími kritérii mohou být také organizace, kvalifikace a zkušenosti osob zapojených do realizace veřejné zakázky, pokud mají významný dopad na jejich plnění“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é dílčí hodnotící kritérium připadá v úvahu dle důvodové zprávy (DZ) u tzv. intelektuálních služeb (např. služby architektů, konzultantů, projektantů, restaurátorů apod.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žadavek na kvalifikaci v rámci hodnotících kritérií by se neměl krýt s technickými kvalifikačními předpoklady (dle § 50 odst. 5 kvalifikace nesmí být předmětem hodnotících kritérií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E750-65D5-475B-ABC0-D130D24FE48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5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 Unicode MS"/>
              </a:rPr>
              <a:t>Zakotvení povinnosti posuzovat nabídkové ceny s ohledem na možnou mimořádně nízkou nabídkovou cenu i při použití elektronické aukce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le předchozí právní úpravy spadala povinnost posoudit výši nabídkových cen do tzv. předběžného hodnocení nabídek před začátkem elektronické aukce, což však ZVZ výslovně nestanovil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ě povinnost posoudit nabídkové ceny po ukončení elektronické aukc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880F-EA56-4AFD-B0E8-F2212E41A3A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ovela ZVZ od 6. 3. 2015 (6/6)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Řízení před ÚOH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ově zavedena koncentrace řízení (§ 114 odst. 10 a 11ZVZ), což znamená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640" indent="-27720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Některé náležitosti návrhu na zahájení řízení nemohou být dodatečně měněny ani doplňován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640" indent="-277200">
              <a:spcBef>
                <a:spcPts val="601"/>
              </a:spcBef>
              <a:buClr>
                <a:srgbClr val="000000"/>
              </a:buClr>
              <a:buFont typeface="JohnSans Text Pro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řízení zahájeném na návrh mohou účastníci řízení navrhovat důkazy , uvádět skutečnosti a činit jiné návrhy nejpozději ve lhůtě 15 kalendářních dnů ode dne doručení oznámení o zahájené říze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640" indent="-277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ále ke zvýšení částky kauce poskytované v případě podání návrhu na uložení zákazu plnění smlouv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60EA-0B42-4108-9F0C-3FDC7F10827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4DC-5663-42DE-999D-BA4EEA42D9C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ZÁVĚR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ěkuji za pozornost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4071960"/>
            <a:ext cx="70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 Unicode MS"/>
              </a:rPr>
              <a:t>Tomáš Mikuleck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Odbor právní 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tomas.mikulecky@sfzp.c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92360" y="4935600"/>
            <a:ext cx="6094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eské republik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aplanova 1931/1, 148 00 Prah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730 162 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sfzp.cz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03244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96" name="Obrázek 7" descr="Mozaika_prezentace_V.jpg"/>
          <p:cNvPicPr/>
          <p:nvPr/>
        </p:nvPicPr>
        <p:blipFill>
          <a:blip r:embed="rId2"/>
          <a:stretch/>
        </p:blipFill>
        <p:spPr>
          <a:xfrm>
            <a:off x="7927920" y="0"/>
            <a:ext cx="121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Základní předpisy pro zadávání veřejných zakázek v režimu záko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ředpisy ČR – stavební práce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hláška č. 230/2012 Sb., kterou se stanoví podrobnosti vymezení předmětu veřejné zakázky na stavební práce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 rozsah soupisu stavebních prací, dodávek a služeb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 výkazem výmě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hláška č. 231/2012 Sb., kterou se stanoví obchodní podmínky pro veřejné zakázky na stavební prác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C7F-0610-42D2-82C7-614649317AF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Základní předpisy pro zadávání veřejných zakázek v/mimo režim zákon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ředpisy OPŽP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Metodický pokyn pro oblast zadávání zakázek pro programové období 2014 – 2020 (MMR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podpor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 OPŽP 2014 – 2020, kapitola D.3 „Zadávání veřejných zakázek“ →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nesmí stanovit mírnější povinnosti, než stanoví Metodický pokyn MM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0CF-5032-47F1-A55B-EE2BB9EBA50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Upravuje povinnosti a postup zadavatelů při zadávání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VZ mimo režim zákona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např. VZMR, FO/PO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 dotací 50 % a méně, sektorový zadavatel nezadávající nadlimitní VZ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VZ zadávaných v režimu zákona, pokud tak ustanovení PrŽaPu výslovně stanov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3E5-234B-4D0C-87E9-208C823D1F4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Druhy VZ dle předpokládané hodnot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VZ vyšší hodno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98400" indent="-322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/služby – nejméně ≥ 2.000.000,- Kč bez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98400" indent="-322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 – nejméně ≥ 6.000.000,- Kč bez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VZ malé hodnot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98400" indent="-322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dávky/služby – nedosáhne &lt; 2.000.000,- Kč bez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698400" indent="-322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stavební práce – nedosáhne &lt; 6.000.000,- Kč bez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davatel je povinen je zadávat dle kapitoly D.3 PrŽaP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01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0FC-F31C-4E58-82CD-6FD4E7834F9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5573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Výjimky z povinnosti zadavatele zadávat dle kapitoly </a:t>
            </a:r>
            <a:br>
              <a:rPr sz="2400"/>
            </a:b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D.3 PrŽaPu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597240" indent="-3412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Z malé hodnoty, jejichž předpokládaná hodnot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je nižší než 400.000,- Kč bez DP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597240" indent="-3412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Z malé hodnoty, jejichž předpokládaná hodnota je nižší než 500.000,- Kč bez DPH u zadavatele, který není veřejným/sektorovým zadavatelem a zároveň dotace není vyšší než 50 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597240" indent="-3412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Z malé hodnoty/vyšší hodnoty, které splňují podmínky dle § 18 odst. 1 až 4 a § 19 zákona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např. utajované informac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597240" indent="-34128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3f9c35"/>
              </a:buClr>
              <a:buFont typeface="Arial Unicode MS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davatel využije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přímé </a:t>
            </a: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objednávky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7400" indent="-2574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582-3F90-4DB7-9CAC-D96E500451F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avidla pro žadatele a příjemce podpory v 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Unicode MS"/>
              </a:rPr>
              <a:t>Zásady postupu zadavatel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Transparentn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Rovného zacháze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ákazu diskrimin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Hospodárn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Efektivn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Účeln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812880" indent="-45720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ákazu omezovat účast zahraničním dodavatelům (sídlo/místo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podnikání v EU, mezinárodní smlouva)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550"/>
              </a:spcBef>
              <a:buClr>
                <a:srgbClr val="3f9c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6054-50DC-4DA3-BC6A-AAB81996131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11:54Z</dcterms:created>
  <dc:creator>mpecnova</dc:creator>
  <dc:description/>
  <dc:language>en-US</dc:language>
  <cp:lastModifiedBy>Mikulecky Tomas</cp:lastModifiedBy>
  <dcterms:modified xsi:type="dcterms:W3CDTF">2015-06-30T09:26:49Z</dcterms:modified>
  <cp:revision>63</cp:revision>
  <dc:subject/>
  <dc:title>Snímek 1</dc:title>
</cp:coreProperties>
</file>