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0BCE-C3EC-459B-A17E-C72B1FC5F8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2447-9FE8-476D-B9A6-E3D2C5727D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80E-322D-4054-9E37-A16E0E71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851-EC1E-461E-A8FD-5DD631AA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94C-48FB-4670-AF6A-B37AF50A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44A-BE5B-4335-A0DA-7DC3987A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BC7E-1545-48C4-8A30-0C719886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6F8B-8D6A-438A-8EA8-21EFF7D4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BFAA-FEFC-441E-B821-DA3AF577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3881-6D3D-4471-99EF-6EFF3587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179C-AF41-4759-91E2-6D53B16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994B-6721-467E-9E32-7EE6DF40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C16D-5D73-4419-980C-FBFFC2C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4CE-C871-4BCE-AEB8-DA4D8F8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4452-71A4-4F05-AF69-2B102A9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2EF8-CB01-4A42-B586-1DBB689D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3662-CEC2-46BB-9CA5-CCBB871D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6DBF-1DB0-41C8-8412-51922D47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1BB8-58D5-4C20-BD66-23B678F5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E32-4933-446C-AB4A-D81E749B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47C-E38E-4C39-B750-95E3ABA1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DA3-A81D-474A-AC20-C0B703F1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74E-ED8A-4258-8A37-2F71F4BC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5CF-7479-412B-9CEE-89FF3E2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CF2-E864-4E81-AC9F-C21EE2D7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F2B-1F30-487A-BA7A-09507717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50AF-FA5A-4E80-9982-74385091D95B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95280" y="1495440"/>
            <a:ext cx="83534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1692360" y="573408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Ministerstvo životního prostředí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12" descr="Mozaika_prezentace.jpg"/>
          <p:cNvPicPr/>
          <p:nvPr/>
        </p:nvPicPr>
        <p:blipFill>
          <a:blip r:embed="rId3"/>
          <a:srcRect l="0" t="0" r="13225" b="0"/>
          <a:stretch/>
        </p:blipFill>
        <p:spPr>
          <a:xfrm>
            <a:off x="0" y="0"/>
            <a:ext cx="7929720" cy="1216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D3D6-EF93-45B3-B852-4E756CB657E2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bohdan.polak@sfzp.cz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92000" y="2852280"/>
            <a:ext cx="7056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46ad"/>
                </a:solidFill>
                <a:latin typeface="Arial Unicode MS"/>
              </a:rPr>
              <a:t>Prioritní osa 2 a 5 v OPŽP 2014+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0A0B-2DE7-4E54-8DCB-C5A4EA75407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10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Základní kritéria přijatelnost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rojekty zaměřené na realizaci OZE budou přijatelné pouze v případě nemožnosti podpory v rámci Operačního programu Podnikání a inovace pro konkurenceschopnost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16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rojekty realizované na spalovacích stacionárních zdrojích s celkovým jmenovitým tepelným příkonem 20MW a vyšším mohou být podporovány, pouze pokud je zjevné, že primárním cílem je snížení emisí znečišťujících látek a nevedou ke snižování emisí C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resp. snížení emisí C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2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je pouze vedlejším efektem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případě realizace výměny lokálního zdroje tepla na vytápění musí budova resp. budovy po realizaci projektu splňovat minimálně požadovanou hodnotu průměrného součinitele prostupu tepla obálkou budovy Uem, N uvedenou v odst. 5.3 normy ČSN 730540-2 (znění říjen 2011)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F398-761E-4659-9C0D-9211837F82C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10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ro relevantní výkony je podpora nových zdrojů tepla definována požadavky směrnicí Evropského parlamentu a Rady 2009/125/ES o ekodesignu a jejich prováděcích předpisů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ebudou přijatelné projekty, u nichž dochází k odpojení od CZT (či náhradě dodávek energií z CZT)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U projektů zaměřených na Rozšiřování (včetně nových soustav) a rekonstrukce soustav centralizovaného zásobování tepelnou energií </a:t>
            </a: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nejsou přijatelnými příjemci podpory podnikatelské subjekty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3F27-C8DA-4970-8838-55EE14EF33E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10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Stacionární zdroje, na které se vztahuje Směrnice o průmyslových emisích, nebudou podporovány za účelem dosažení prostého souladu s intervalem hodnot dle nejlepších dostupných technik (BAT). </a:t>
            </a: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V uvedeném případě je oprávněná pouze podpora dosažení nižší (a tedy nejvíce ambiciózní) poloviny intervalu hodnot dle BAT, a to v souladu s podmínkami veřejné podpory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. Pokud hodnocení nákladové efektivity (v rámci Studie proveditelnosti) ukáže, že zaměření na dolní polovinu intervalu hodnot dle BAT není proveditelné, bude možné podpořit i horní polovinu intervalu hodnot dle BAT.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Způsobilé náklady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Za způsobilé výdaje jsou obecně považovány náklady na stavební práce, dodávky a služby bezprostředně související s předmětem podpory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Omezení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U projektů zaměřených na podporu technologií ke snižování emisí NH3 z chovů hospodářských zvířat, jsou realizační způsobilé výdaje max. 850 tis. Kč bez DPH/t NH3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alší omezení jsou definována v </a:t>
            </a: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Pravidlech pro žadatele a příjemce podpory v Operačním programu Životní prostředí pro období 2014 – 2020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apř. u realizace lokálních zdrojů max. částka na instalovaný výkon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A011-D9CF-4B99-A217-EFE87E6D06B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1341360"/>
            <a:ext cx="8103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Zásadní přílohy k žádosti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Projektová dokumentace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 úrovni pro stavební povolení, případně vyšší stupeň projektové dokumentace včetně položkového rozpočtu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Kumulativní rozpočet projektu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– závazný vzor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Analýza souladu projektu s Prioritní osou 2 OPŽP 2014 - 2020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(Analýza souladu), kde environmentální vyhodnocení projektu bude zpracováno právnickou nebo fyzickou osobou, které MŽP vydalo podle § 32 zákona č. 201/2012 Sb., o ochraně ovzduší, osvědčení o autorizaci ke zpracování odborných posudků. Analýza souladu bude zpracována v souladu se závaznými vzory zveřejněnými SFŽP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Energetický posudek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– závazný vzor, energetický auditor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C206-2AAC-4D41-A21F-8BE09993E69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8CA9-B311-4023-A499-E5A7B31197C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2.3 – Zlepšit systém sledování, hodnocení a předpovídání vývoje kvality ovzduší a souvisejících meteorologických aspektů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ýstavba a obnova systémů sledování kvality ovzduší a souvisejících meteorologických aspektů v celorepublikovém či regionálním měřítku.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pořízení a aktualizace systémů určených pro hodnocení kvality ovzduší a posouzení dopadů opatření ke zlepšení kvality ovzduší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podpora obnovy a rozvoje systémů pro archivaci a zpracování údajů o znečišťování ovzduší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realizace infrastruktury pro identifikaci zdrojů znečišťování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realizace integrovaných systémů a budování společné infrastruktury pro sledování kvality ovzduší a souvisejících meteorologických aspektů, výstražné, regulační a předpovědní systémy, modelování s vysokým rozlišením a identifikaci zdrojů znečišťování, podpora implementace opatření vyplývajících z plánů a programů ke zlepšení kvality ovzduší v koordinaci s příhraničními regiony Polské republiky a Slovenské republiky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130A-A001-4AF1-AF2E-6BA4412603D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Forma a výše podpory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dpora v rámci SC 2.3 bude poskytována formou dotace z prostředků Fondu soudržnosti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dpora bude poskytována formou dotace, s maximální hranicí do 85 % celkových způsobilých nákladů projektů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 případě, kdy bude financování projektů podléhat veřejné podpoře, nebo bude financováno v režimu de minimis, bude se výše nebo míra podpory řídit příslušnými předpisy relevantními pro konkrétní projekt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71BD-9512-4A8D-BDD5-83FE9DA44FF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Oprávnění žadatelé (příjemci podpory)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kraj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ob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dobrovolné svazky obcí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organizační složky státu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podnik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veřejné výzkumné institu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veřejnoprávní institu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městské části hl. města Prah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příspěvkové organiza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vysoké školy, školy a školská zařízení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3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nevládní neziskové organizace (obecně prospěšné společnosti, nadace, nadační fondy, ústavy, spolky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39AB-0D56-4C85-AC89-D98C01B7AA2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10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6ad"/>
                </a:solidFill>
                <a:latin typeface="Arial Unicode MS"/>
              </a:rPr>
              <a:t>Základní kritéria přijatelnost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Souhlasné stanovisko odboru ochrany ovzduší MŽP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6ad"/>
                </a:solidFill>
                <a:latin typeface="Arial Unicode MS"/>
              </a:rPr>
              <a:t>Způsobilé náklady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Za způsobilé výdaje jsou obecně považovány náklady na stavební práce, dodávky a služby bezprostředně související s předmětem podpory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6ad"/>
                </a:solidFill>
                <a:latin typeface="Arial Unicode MS"/>
              </a:rPr>
              <a:t>Zásadní přílohy k žádosti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6ad"/>
                </a:solidFill>
                <a:latin typeface="Arial Unicode MS"/>
              </a:rPr>
              <a:t>Projektová dokumentace </a:t>
            </a: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 úrovni pro stavební povolení, případně vyšší stupeň projektové dokumentace včetně položkového rozpočtu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6ad"/>
                </a:solidFill>
                <a:latin typeface="Arial Unicode MS"/>
              </a:rPr>
              <a:t>Kumulativní rozpočet projektu </a:t>
            </a: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– závazný vzor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6ad"/>
                </a:solidFill>
                <a:latin typeface="Arial Unicode MS"/>
              </a:rPr>
              <a:t>Studie proveditelnosti zpracovaná právnickou </a:t>
            </a: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nebo fyzickou osobou, které MŽP vydalo podle § 32 zákona č. 201/2012 Sb., o ochraně ovzduší, osvědčení o autorizaci ke zpracování odborných posudků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560" y="1341360"/>
            <a:ext cx="8103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5.1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– Snížit energetickou náročnost veřejných budov a zvýšit využití obnovitelných zdrojů energi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5.2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– Dosáhnout vysokého energetického standardu nových veřejných budov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9435-933A-4919-B5F6-7F5F4A1AEDE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BF03-04E1-4032-95A9-521ECF9110C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2.1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– Snížit emise z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lokálního vytápění domácností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2.2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– Snížit emise ze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stacionárních zdrojů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2.3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– Systémy sledování a hodnocení kvality ovzduší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3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5.1 - Snížit energetickou náročnost veřejných budov a zvýšit využití obnovitelných zdrojů energi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Celkové nebo dílčí energeticky úsporné renovace veřejných budov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 algn="just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Zateplení obvodového pláště budovy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 algn="just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ýměna a renovace (repase) otvorových výplní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 algn="just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Realizace opatření majících prokazatelně vliv na energetickou náročnost budovy nebo zlepšení kvality vnitřního prostředí (fotovoltaické systémy, vnitřní osvětlení apod.)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 algn="just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Realizace systémů nuceného větrání s rekuperací odpadního tepla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 algn="just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Realizace systémů využívajících odpadní teplo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 algn="just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ýměna zdroje tepla pro vytápění nebo přípravu teplé užitkové vody s výkonem nižším než 5 MW využívajícího fosilní paliva nebo elektrickou energii za účinné zdroje využívající biomasu, tepelná čerpadla, kondenzační kotle na zemní plyn nebo zařízení pro kombinovanou výrobu elektřiny a tepla využívající obnovitelné zdroje nebo zemní plyn,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 algn="just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Instalace solárně-termických kolektorů pro přitápění nebo pouze přípravu TV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1AC1-3A53-43CF-9D13-B504DAE2BE3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8200" indent="-268200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Samostatná opatření výměny zdroje tepla s výkonem nižším než 5 MW využívajícího fosilní paliva nebo elektrickou energii pro vytápění nebo přípravu teplé vody: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účinné zdroje využívající biomasu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tepelná čerpadla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kondenzační kotle na zemní plyn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zařízení pro kombinovanou výrobu elektřiny a tepla využívající obnovitelné zdroje nebo zemní plyn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solárně-termické kolektory,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systémy nuceného větrání s rekuperací odpadního tepl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83DB-99F0-4553-AEC2-20A686EEBA9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Forma a výše podpory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dpora v rámci SC 5.1 bude poskytována formou dotace nebo prostřednictvím finančního nástroje, popřípadě jejich kombinací z prostředků F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dpora poskytována formou dotace bude s </a:t>
            </a: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maximální hranicí do 60%  (40% - finanční nástroj)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celkových způsobilých nákladů projektu (neodečítá se úspora provozních nákladů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 případě, kdy bude financování projektů podléhat veřejné podpoře, nebo bude financováno v režimu de minimis, bude se výše nebo míra podpory řídit příslušnými předpisy relevantními pro konkrétní projekt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AC72-AEA5-49FF-9136-2DD989A0424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A434-7537-4EC6-AB3F-B50095FF26A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Oprávnění žadatelé (příjemci podpory)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kraj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b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dobrovolné svazky obcí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rganizační složky státu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státní organiza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eřejné výzkumné institu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eřejnoprávní institu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městské části hl. města Prah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příspěvkové organiza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ysoké školy, školy a školská zařízení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nestátní neziskové organizace (obecně prospěšné společnosti, nadace, nadační fondy, ústa­vy, spolky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Základní kritéria přijatelnosti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46ad"/>
                </a:solidFill>
                <a:latin typeface="Arial Unicode MS"/>
              </a:rPr>
              <a:t>Projekty zaměřené na komplexní řešení energetické náročnosti budov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Po realizaci musí budova plnit minimálně parametry energetické náročnosti podle  požadavků definovaných  § 6 odst. 2 písm. a) nebo b) vyhlášky č.78/2013 Sb., o energetické náročnosti. Tento požadavek se netýká památkově chráněných budov v souladu s § 7 odst. 5 zákona č. 406/2000 Sb. ve znění pozdějších předpisů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realizaci projektu musí být součinitel prostupu tepla měněných stavebních prvků obálky, které jsou předmětem podpory, minimálně na doporučených hodnotách dle ČSN 730540-2 (2011)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U budov sloužících pro výchovu a vzdělávání dětí a mladistvých, musí být v rámci projektu navržen systém větrání v souladu s vyhláškou č.410/2005 Sb., o hygienických požadavcích na prostory a provoz zařízení a provozoven pro výchovu a vzdělávání dětí a mladistvých, ve znění pozdějších předpisů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A23F-2623-4908-8F08-F3357EEDCC1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9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964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Instalace fotovoltaického systému bude podpořena pouze v případě, že bude součástí komplexního projektu, nikoliv jako samostatné opatření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964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 případě, že jsou v budově využívána pro vytápění nebo přípravu teplé užitkové vody tuhá nebo kapalná fosilní paliva, musí dojít k náhradě tohoto zdroj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964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Realizací projektu musí dojít k úspoře celkové energie min. o 20 % oproti původnímu stavu, u památkově chráněných budov min. o 10 %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9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9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46ad"/>
                </a:solidFill>
                <a:latin typeface="Arial Unicode MS"/>
              </a:rPr>
              <a:t>Projekty zaměřené pouze na výměnu zdroje tepla, zdroje TV nebo realizaci systémů nuceného větrání s rekuperací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9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964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 případě realizace výměny zdroje tepla musí budova splňovat minimálně požadovanou hodnotu průměrného součinitele prostupu tepla obálkou budovy Uem, N uvedenou v odst. 5.3 normy ČSN 730540-2 (znění říjen 2011). Netýká se památkově chráněných budov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9EA3-E050-4DF2-8658-C0EA4B97ABD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8200" indent="-2682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Po realizaci projektu musí dojít k úspoře energie na vytápění min. o 20 % oproti původnímu stavu. U samostatných realizací termických solárních soustav musí dojít k úspoře energie na ohřev TV min. o 20 % oproti původnímu stavu. Netýká se samotné instalace systému nuceného větrání s rekuperací.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46ad"/>
                </a:solidFill>
                <a:latin typeface="Arial Unicode MS"/>
              </a:rPr>
              <a:t>Obecná kritéria přijatelnosti jak pro komplexní řešení, tak pouze pro výměnu zdroje tepla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ýměna zdroje tepla je určena pouze pro budovy, kde je výroba tepla realizována zdrojem využívajícím fosilní paliva nebo elektrickou energii. Toto omezení se netýká fototermických solárních systémů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 případě, že je budova vytápěna zdrojem na zemní plyn, bude podporován pouze přechod na plynové tepelné čerpadlo nebo zařízení pro kombinovanou výrobu elektřiny a tepla, kdy stáří původního zdroje v době podání žádosti nesmí být kratší než 10 let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Realizací projektu musí dojít k min. úspoře 20 % emisí CO2 oproti původnímu stavu, u památkově chráněných budov 10 %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lnSpc>
                <a:spcPct val="100000"/>
              </a:lnSpc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866A-8142-48DC-87FE-B90AAFE1B18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68200" indent="-2682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 případě výměny zdroje tepla na vytápění musí dojít min. k úspoře 30 % emisí CO2 oproti původnímu stavu, pokud dochází ke změně paliva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Realizací projektu musí dojít k úspoře emisí TZL a NOx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 případě instalací nových zdrojů tepla (případně elektřiny) a systémů nuceného větrání s rekuperací nutnost splnění minimálních požadovaných parametrů (Nařízení EK, vyhlášky, ČSN apod.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E331-408D-459C-B885-D7D7F9C16C4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Způsobilé náklady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Za způsobilé výdaje jsou obecně považovány stavební práce, dodávky a služby bezprostředně související s předmětem podpory, zejména pak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stavební práce, dodávky a služby spojené se zlepšováním energetických vlastností obálky budov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stavební práce, dodávky a služby spojené s dalšími opatřeními majícími prokazatelně vliv na energetickou náročnost budovy nebo zlepšení kvality vnitřního prostředí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stavební práce, dodávky a služby spojené s realizací systémů nuceného větrání s rekuperací odpadního tepla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7734-F639-42D2-BFA5-C7C1CCEF1E2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4520" indent="-254520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stavební práce, dodávky a služby spojené s výměnou zdroje tepla využívajícího fosilní paliva nebo elektrickou energii za účinné zdroje využívající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biomasu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tepelná čerpadla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kondenzační kotle na zemní plyn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zařízení pro kombinovanou výrobu elektřiny a tepla využívající obnovitelné zdroje nebo zemní plyn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84080" indent="-271440">
              <a:spcBef>
                <a:spcPts val="45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fototermické solární systémy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54520" indent="-254520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stavební práce, dodávky a služby spojené s realizací systémů využívajících odpadní teplo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54520" indent="-254520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stavební práce, dodávky a služby spojené s výstavbou teplovodní otopné soustavy (pokud původní zdroj tepla pracoval bez otopné soustavy)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54520" indent="-254520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áklady na zkoušky nebo testy související s uváděním majetku do stavu způsobilého k užívání a k prokázání splnění technických parametrů, ovšem pouze v období do kolaudace (uvedení do trvalého provozu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54520" indent="-254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54520" indent="-254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54520" indent="-254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54520" indent="-254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54520" indent="-254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70F9-52D8-4584-8692-8E28C8EACE1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4072-ACE8-4B35-8661-C1B8E0C823B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2.1 - Snížit emise z lokálního vytápění domácností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 Unicode MS"/>
              </a:rPr>
              <a:t>Typy podporovaných projektů a aktivit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ýměna zdrojů tepla na pevná paliva z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tepelné čerpadl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kotel na pevná paliv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lynový kondenzační kote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Instalace solárně-termických soustav pro přitápění nebo přípravu TV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ikro – energetická opatření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mezení způsobilých investičních (realizačních) nákladů u vybraných opatření: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Maximální způsobilé výdaje v případě snižování spotřeby energie zlepšením tepelně technických vlastností obvodových konstrukcí budov.</a:t>
            </a: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plocha na systémové hranici budovy.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*možnost uplatnění míry způsobilosti se bude odvíjet od požadavku příslušného orgánu památkové péče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Další omezení jsou definována v </a:t>
            </a:r>
            <a:r>
              <a:rPr b="1" lang="cs-CZ" sz="1600" spc="-1" strike="noStrike">
                <a:solidFill>
                  <a:srgbClr val="0046ad"/>
                </a:solidFill>
                <a:latin typeface="Arial Unicode MS"/>
              </a:rPr>
              <a:t>Pravidlech pro žadatele a příjemce podpory v Operačním programu Životní prostředí pro období 2014 – 2020 </a:t>
            </a: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např. u realizace lokálních zdrojů max. částka na instalovaný výkon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56F9-9C77-4925-B2E9-66006D8B6CE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16000" y="2421000"/>
          <a:ext cx="6551640" cy="2376360"/>
        </p:xfrm>
        <a:graphic>
          <a:graphicData uri="http://schemas.openxmlformats.org/drawingml/2006/table">
            <a:tbl>
              <a:tblPr/>
              <a:tblGrid>
                <a:gridCol w="4371840"/>
                <a:gridCol w="2179800"/>
              </a:tblGrid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ZATEPLOVANÉ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č bez DPH /m</a:t>
                      </a:r>
                      <a:r>
                        <a:rPr b="1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*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54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bvodové stě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 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oché a šikmé střešní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 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02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onstrukce k nevytápěným prostorů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půdám, suterénům, ostatním místnost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dlahy na zemin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54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ýplně otvor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 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ýplně otvorů – památkové chráněné budov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 000</a:t>
                      </a:r>
                      <a:r>
                        <a:rPr b="1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5.2 - Dosáhnout vysokého energetického standardu nových veřejných budov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ícenáklady na dosažení pasivního energetického standardu v případě výstavby nových budov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E63F-C49F-43DE-8004-7901E6965CC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3640" y="1341000"/>
            <a:ext cx="81039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Forma a výše podpory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odpora bude poskytována formou dotace reflektující vícenáklady na dosažení pasivního energetického standardu,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iz tabulky níže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ícenáklady na jednotlivé budované konstrukce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ícenáklady na systém nuceného větrání s rekuperací odpadního tepla: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ADF7-4735-4C8B-B3DF-12E6A931A23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5280" y="2924280"/>
          <a:ext cx="5759280" cy="1439640"/>
        </p:xfrm>
        <a:graphic>
          <a:graphicData uri="http://schemas.openxmlformats.org/drawingml/2006/table">
            <a:tbl>
              <a:tblPr/>
              <a:tblGrid>
                <a:gridCol w="3876840"/>
                <a:gridCol w="1882440"/>
              </a:tblGrid>
              <a:tr h="3603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UDOVANÉ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č bez DPH /m</a:t>
                      </a:r>
                      <a:r>
                        <a:rPr b="1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*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bvodové stě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5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dlahy na zemině a střešní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ýplně otvor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95280" y="4869000"/>
          <a:ext cx="5688000" cy="1152360"/>
        </p:xfrm>
        <a:graphic>
          <a:graphicData uri="http://schemas.openxmlformats.org/drawingml/2006/table">
            <a:tbl>
              <a:tblPr/>
              <a:tblGrid>
                <a:gridCol w="3767040"/>
                <a:gridCol w="1920960"/>
              </a:tblGrid>
              <a:tr h="3841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yp budov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č bez DPH/(m</a:t>
                      </a:r>
                      <a:r>
                        <a:rPr b="1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r>
                        <a:rPr b="1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-1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udovy pro výchovu a vzdělávání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41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statní budov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  <a:ea typeface="Arial Unicode MS"/>
              </a:rPr>
              <a:t>Bonifikace projektu na základě úrovně znečištění ovzduší v území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Pokud platí, že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je projekt realizován v obci s více než 1 000 obyvateli, kde byl dle map klouzavých pětiletých průměrů 2007-2011 sestavených ČHMU překročen více než jeden imisní limit, bude bonifikován </a:t>
            </a:r>
            <a:r>
              <a:rPr b="1" lang="cs-CZ" sz="1800" spc="-1" strike="noStrike">
                <a:solidFill>
                  <a:srgbClr val="000000"/>
                </a:solidFill>
                <a:latin typeface="Arial Unicode MS"/>
              </a:rPr>
              <a:t>10% nárůstem max. částky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reflektující vícenáklady na dosažení pasivního energetického standardu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nebo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je projekt realizován v obci s právě 1 000 obyvateli a méně, kde byl dle map klouzavých pětiletých průměrů 2007-2011 sestavených ČHMU překročen více než jeden imisní limit, bude projekt bonifikován </a:t>
            </a:r>
            <a:r>
              <a:rPr b="1" lang="cs-CZ" sz="1800" spc="-1" strike="noStrike">
                <a:solidFill>
                  <a:srgbClr val="000000"/>
                </a:solidFill>
                <a:latin typeface="Arial Unicode MS"/>
              </a:rPr>
              <a:t>5% nárůstem max. částky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reflektující vícenáklady na dosažení pasivního energetického standardu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83FC-F127-4B75-B263-096D7D990A5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87280" y="3068640"/>
          <a:ext cx="6264360" cy="2160720"/>
        </p:xfrm>
        <a:graphic>
          <a:graphicData uri="http://schemas.openxmlformats.org/drawingml/2006/table">
            <a:tbl>
              <a:tblPr/>
              <a:tblGrid>
                <a:gridCol w="3552840"/>
                <a:gridCol w="2711520"/>
              </a:tblGrid>
              <a:tr h="3427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EDOVANÝ UKAZA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ŽADOVANÁ HODNO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108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eprůvzdušnost obálky budovy při tlakovém rozdílu 50 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</a:t>
                      </a:r>
                      <a:r>
                        <a:rPr b="0" lang="cs-CZ" sz="10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50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= 0,6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128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ůměrný součinitel prostupu tep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</a:t>
                      </a:r>
                      <a:r>
                        <a:rPr b="0" lang="cs-CZ" sz="10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em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≤ 0,35 W/m</a:t>
                      </a:r>
                      <a:r>
                        <a:rPr b="0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 ale nejvýše U</a:t>
                      </a:r>
                      <a:r>
                        <a:rPr b="0" lang="cs-CZ" sz="10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em, r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27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ěrná potřeba tepla na vytápě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≤ 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 kWh/m</a:t>
                      </a:r>
                      <a:r>
                        <a:rPr b="0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16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ěrná potřeba tepla na chlaze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≤ 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 kWh/m</a:t>
                      </a:r>
                      <a:r>
                        <a:rPr b="0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ěrná potřeba primární energ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a ≤ 120 kWh/m</a:t>
                      </a:r>
                      <a:r>
                        <a:rPr b="0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9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C0C9-5FF2-4BAD-9AD4-46255F505F1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4"/>
          <p:cNvSpPr/>
          <p:nvPr/>
        </p:nvSpPr>
        <p:spPr>
          <a:xfrm>
            <a:off x="-93960" y="1444680"/>
            <a:ext cx="39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  <a:ea typeface="Arial Unicode MS"/>
              </a:rPr>
              <a:t>Základní kritéria přijatel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5"/>
          <p:cNvSpPr/>
          <p:nvPr/>
        </p:nvSpPr>
        <p:spPr>
          <a:xfrm>
            <a:off x="324000" y="2060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á budova bude dosahovat pasivního standardu daného následující sadou hodnot energetických ukazatelů (po celé programové období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341360"/>
            <a:ext cx="8103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Zásadní přílohy k žádosti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Projektová dokumentace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v úrovni pro stavební povolení, případně vyšší stupeň projektové dokumentace včetně položkového rozpočtu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Kumulativní rozpočet projektu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– závazný vzor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Energetický posudek,</a:t>
            </a:r>
            <a:r>
              <a:rPr b="1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Energetický štítek obálky budovy (EŠOB) dle normy ČSN 730540-2 (2011)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– závazný vzor, energetický auditor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Stanovisko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příslušného orgánu památkové péč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Odborný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posudek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, zpracovaný v souladu s "Metodikou posuzování staveb z hlediska výskytu zvláště chráněných druhů živočichů" odborně způsobilou osobou, posuzující výskyt ZCHD živočichů na zateplovaném (rekonstruovaném) objektu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5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6ad"/>
                </a:solidFill>
                <a:latin typeface="Arial Unicode MS"/>
              </a:rPr>
              <a:t>Průkaz energetické náročnosti budovy (PENB)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– zpracovaný dle prováděcí vyhlášky č. 78/2013 Sb., o energetické náročnosti budovy. Prostřednictvím PENB musí být prokázáno splnění požadavku na energetickou náročnost budovy v úrovni pasivního standardu. Platí pouze pro SC 5.2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0C09-3808-4BF3-AD17-6D5F891931F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498-A92C-42EC-BF0A-B5468252E87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6200" y="1228680"/>
            <a:ext cx="688032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Děkuji za pozornos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274760" y="3114720"/>
            <a:ext cx="7056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 Unicode MS"/>
              </a:rPr>
              <a:t>Bohdan Polak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Odbor ochrany ovzduší a OZE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tel.: +420 267 994 552, gsm: +420 725 789 605</a:t>
            </a:r>
            <a:br>
              <a:rPr sz="1400"/>
            </a:b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 Unicode MS"/>
                <a:hlinkClick r:id="rId1"/>
              </a:rPr>
              <a:t>bohdan.polak@sfzp.cz</a:t>
            </a: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692360" y="5300640"/>
            <a:ext cx="705636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átní fond životního prostředí České republiky, Kaplanova 1931/1, 148 00 Praha 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46ad"/>
                </a:solidFill>
                <a:latin typeface="Arial"/>
                <a:ea typeface="Arial"/>
              </a:rPr>
              <a:t>jmeno.prijmeni@sfzp.cz</a:t>
            </a:r>
            <a:r>
              <a:rPr b="1" lang="cs-CZ" sz="1300" spc="-1" strike="noStrike">
                <a:solidFill>
                  <a:srgbClr val="0046ad"/>
                </a:solidFill>
                <a:latin typeface="Arial Unicode MS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300" spc="-1" strike="noStrike">
                <a:solidFill>
                  <a:srgbClr val="0046ad"/>
                </a:solidFill>
                <a:latin typeface="Arial"/>
                <a:ea typeface="Arial"/>
              </a:rPr>
              <a:t>www.opzp.cz</a:t>
            </a:r>
            <a:r>
              <a:rPr b="0" lang="cs-CZ" sz="13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300" spc="-1" strike="noStrike">
                <a:solidFill>
                  <a:srgbClr val="73767d"/>
                </a:solidFill>
                <a:latin typeface="JohnSans Text Pro"/>
              </a:rPr>
              <a:t>  </a:t>
            </a:r>
            <a:r>
              <a:rPr b="1" lang="cs-CZ" sz="1300" spc="-1" strike="noStrike">
                <a:solidFill>
                  <a:srgbClr val="3f9c35"/>
                </a:solidFill>
                <a:latin typeface="Arial"/>
                <a:ea typeface="Arial"/>
              </a:rPr>
              <a:t>zelená linka 800 260 500</a:t>
            </a:r>
            <a:r>
              <a:rPr b="0" lang="cs-CZ" sz="1300" spc="-1" strike="noStrike">
                <a:solidFill>
                  <a:srgbClr val="73767d"/>
                </a:solidFill>
                <a:latin typeface="Arial"/>
                <a:ea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3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300" spc="-1" strike="noStrike">
                <a:solidFill>
                  <a:srgbClr val="0046ad"/>
                </a:solidFill>
                <a:latin typeface="Arial"/>
                <a:ea typeface="Arial"/>
              </a:rPr>
              <a:t>dotazy@sfzp.c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SFZP_H_RGB_NEW"/>
          <p:cNvPicPr/>
          <p:nvPr/>
        </p:nvPicPr>
        <p:blipFill>
          <a:blip r:embed="rId2"/>
          <a:srcRect l="0" t="0" r="71719" b="0"/>
          <a:stretch/>
        </p:blipFill>
        <p:spPr>
          <a:xfrm>
            <a:off x="539640" y="537372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210" name="Obrázek 7" descr="Mozaika_prezentac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FDC3-F0FD-411E-8894-8A052ECDCD6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Forma a výše podpory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Dotace pro fyzické osoby prostřednictví „Grantových schémat“ - kraj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ax. způsobilé výdaje 150 ti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Kombinovaný kotel (uhlí + biomasa), kondenzační plynový kotel,  75%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Bonus za využití OZE 5%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Bonus za lokality se zhoršenou kvalitou ovzduší 5%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Kotel na uhlí – snížení podpory na 70 %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ikro – energetická opatření – max. 20. tis. Kč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341-43E2-47B4-89B2-C1D7895DE58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Základní kritéria přijatelnost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dpora nových zdrojů tepla je definována požadavky směrnicí Evropského parlamentu a Rady 2009/125/ES o ekodesignu a jejich prováděcích předpisů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Min. energetická  náročnost budovy (mikro – opatření, žádost v NZÚ nebo budova již plní třídu C dle vyhlášky č.78/2013 Sb., o energetické náročnosti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Další podmínky budou během června zveřejněny ve zvláštním dokumentu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53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8B7C-9F70-4FA8-AE63-0CA22BCC31B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04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ecifický cíl 2.2 - Snížit emise stacionárních zdrojů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Úplný výčet typů projektů a aktivit není možné s ohledem na množství technických řešení a různorodost stacionárních zdrojů jednoznačně definovat; mezi podporované typy projektů patří například: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áhrada nebo rekonstrukce </a:t>
            </a: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palovacích stacionárních zdrojů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znečišťování za účelem snížení emisí TZL, N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, S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, N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3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a VOC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áhrada nebo rekonstrukce </a:t>
            </a: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ostatních stacionárních zdrojů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znečišťování za účelem snížení emisí TZL, N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, S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, N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3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a VOC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áhrada nebo rekonstrukce </a:t>
            </a: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stacionárních zdrojů emitujících těkavé organické látky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za účelem snížení emisí TZL, N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, S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, N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 Unicode MS"/>
              </a:rPr>
              <a:t>3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a VOC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řízení technologií ke snižování emisí NH3 z chovů hospodářských zvířat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DDF5-6973-4CCA-B067-E29FC401765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04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Rozšiřování a rekonstrukce soustav centralizovaného zásobování tepelnou energií, včetně realizace nových soustav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Omezování prašnosti z plošných zdrojů (dle povahy procesu např. vodní clony, skrápění, odprašovací nebo mlžící zařízení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B681-90BE-4724-A0D4-57AA438DD66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Forma a výše podpory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dpora v rámci SC 2.2 bude poskytována formou dotace z prostředků Fondu soudržnosti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odpora bude poskytována formou dotace, s maximální hranicí do 85 % celkových způsobilých nákladů projektů. V případě výměny lokálního zdroje tepla v objektech nenapojených na CZT s max. hranicí do 60% celkových způsobilých nákladů projektu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 případě, kdy bude financování projektů podléhat veřejné podpoře, nebo bude financováno v režimu de minimis, bude se výše nebo míra podpory řídit příslušnými předpisy relevantními pro konkrétní projekt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A077-81F4-4FF1-A6F8-1414E10D0C2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ioritní osa 2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Arial Unicode MS"/>
              </a:rPr>
              <a:t>Oprávnění žadatelé (příjemci podpory)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kraj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b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dobrovolné svazky obcí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rganizační složky státu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státní podnik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eřejné výzkumné institu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eřejnoprávní institu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městské části hl. města Prah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příspěvkové organiza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vysoké školy, školy a školská zařízení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nestátní neziskové organizace (obecně prospěšné společnosti, nadace, nadační fondy, ústavy, spolky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církve a náboženské společnosti a jejich svazk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podnikatelské subjekt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bchodní společnosti a družstva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fyzické osoby podnikající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18:41Z</dcterms:created>
  <dc:creator>Milena Pecnová</dc:creator>
  <dc:description/>
  <dc:language>en-US</dc:language>
  <cp:lastModifiedBy>Polak Bohdan</cp:lastModifiedBy>
  <dcterms:modified xsi:type="dcterms:W3CDTF">2015-06-21T20:34:57Z</dcterms:modified>
  <cp:revision>48</cp:revision>
  <dc:subject/>
  <dc:title>Snímek 1</dc:title>
</cp:coreProperties>
</file>