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E1F6D-4283-46E2-8DF2-2F115C95974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04D1B-0D45-483A-B2CC-05343DB6B19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Alokace OPŽP 2007-13 byla 4 643 mil. EUR. Pokles alokace OPŽP II na 57%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8D5FC-191D-432F-9418-7E905E5CA24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90285-0D52-48AF-BCF7-291C4199AE3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61817-F627-45DA-A2E2-0F3A8FD18BF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9A31D-9341-4381-9C66-AFCB20B1F04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59AED-6B6E-44FE-920A-E245698A7DB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DEAE4-F262-4FD6-A763-39F9BD6986D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3EC19-8E08-4B10-AEBE-F767C8B2EC9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C5AA-04A0-4140-A918-B925250A0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10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10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77B0-797F-4962-865D-FA4B226E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0960" y="155736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0960" y="392148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308D-E4B4-46BF-881D-5FC98898B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0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08320" y="1557360"/>
            <a:ext cx="260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8640" y="1557360"/>
            <a:ext cx="260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0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08320" y="3921480"/>
            <a:ext cx="260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8640" y="3921480"/>
            <a:ext cx="260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2717-290B-4732-8480-B488B1899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96625-47B9-4CA5-888A-B535805D8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2AD84-E349-4DA5-B80B-8E829918E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C2D62-E8BC-4EA8-B16B-47AE72D4D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395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0960" y="1557360"/>
            <a:ext cx="395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3A333-DC5D-4524-8DE4-E70DDB6D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E7B3E-0A28-4124-B3DB-6D24C07D4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27236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5F567-ED67-438D-9EBB-3710470FB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20960" y="1557360"/>
            <a:ext cx="395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257AF-AAD7-4234-AAF3-DD729FAB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6314-19CA-4976-B4BA-90193B53D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395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20960" y="155736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20960" y="392148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79B1A-2B94-40A5-806B-50B4F829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20960" y="155736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10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48075-71E2-4636-95AD-B0266907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10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10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EE859-057C-47DC-8BFE-437987629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20960" y="155736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20960" y="392148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B0A5E-1EAB-470C-8758-346D930AC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0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08320" y="1557360"/>
            <a:ext cx="260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8640" y="1557360"/>
            <a:ext cx="260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0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08320" y="3921480"/>
            <a:ext cx="260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8640" y="3921480"/>
            <a:ext cx="260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E11E1-825C-4486-87F6-2FE00CC6C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5EAF-A348-4475-8FB2-E741EB484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395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0960" y="1557360"/>
            <a:ext cx="395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BD15-1808-48EE-9AE3-C3225AAD6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8989-A4C5-499B-B117-BA9187C35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27236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96E3-7921-44EE-AF0B-7AB178D52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0960" y="1557360"/>
            <a:ext cx="395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AEF2-4CF5-4F38-8054-0BD114F5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395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0960" y="155736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0960" y="392148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4AB9-CF1B-49B7-A0D9-9E49F5FC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0960" y="155736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10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FA4B-B775-432F-BA7D-EDC6FC53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1216080"/>
          </a:xfrm>
          <a:prstGeom prst="rect">
            <a:avLst/>
          </a:prstGeom>
          <a:solidFill>
            <a:srgbClr val="0046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649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33360" indent="-228600">
              <a:spcBef>
                <a:spcPts val="649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41600" indent="-228600">
              <a:spcBef>
                <a:spcPts val="649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7376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E8A0F-3671-4FBD-9C06-C67ABD49799D}" type="slidenum">
              <a:rPr b="0" lang="cs-CZ" sz="1400" spc="-1" strike="noStrike">
                <a:solidFill>
                  <a:srgbClr val="7376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7927920" y="0"/>
            <a:ext cx="1216080" cy="1216080"/>
          </a:xfrm>
          <a:prstGeom prst="rect">
            <a:avLst/>
          </a:prstGeom>
          <a:solidFill>
            <a:srgbClr val="3f9c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1"/>
          <p:cNvSpPr/>
          <p:nvPr/>
        </p:nvSpPr>
        <p:spPr>
          <a:xfrm>
            <a:off x="0" y="0"/>
            <a:ext cx="9144000" cy="1216080"/>
          </a:xfrm>
          <a:prstGeom prst="rect">
            <a:avLst/>
          </a:prstGeom>
          <a:solidFill>
            <a:srgbClr val="0046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Banner_FS_ERDF_RGB_3_horizont"/>
          <p:cNvPicPr/>
          <p:nvPr/>
        </p:nvPicPr>
        <p:blipFill>
          <a:blip r:embed="rId2"/>
          <a:stretch/>
        </p:blipFill>
        <p:spPr>
          <a:xfrm>
            <a:off x="395280" y="1490760"/>
            <a:ext cx="8353440" cy="9302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9"/>
          <p:cNvSpPr/>
          <p:nvPr/>
        </p:nvSpPr>
        <p:spPr>
          <a:xfrm>
            <a:off x="1692360" y="5734080"/>
            <a:ext cx="705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 Unicode MS"/>
              </a:rPr>
              <a:t>Ministerstvo životního prostředí</a:t>
            </a:r>
            <a:r>
              <a:rPr b="0" lang="cs-CZ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cs-CZ" sz="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cs-CZ" sz="1400" spc="-1" strike="noStrike">
                <a:solidFill>
                  <a:srgbClr val="000000"/>
                </a:solidFill>
                <a:latin typeface="Arial Unicode MS"/>
              </a:rPr>
              <a:t>Státní fond životního prostředí Č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46ad"/>
                </a:solidFill>
                <a:latin typeface="Arial Unicode MS"/>
              </a:rPr>
              <a:t>www.opzp.cz</a:t>
            </a:r>
            <a:r>
              <a:rPr b="0" lang="cs-CZ" sz="1200" spc="-1" strike="noStrike">
                <a:solidFill>
                  <a:srgbClr val="73767d"/>
                </a:solidFill>
                <a:latin typeface="Arial Unicode MS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cs-CZ" sz="800" spc="-1" strike="noStrike">
                <a:solidFill>
                  <a:srgbClr val="73767d"/>
                </a:solidFill>
                <a:latin typeface="Arial Unicode MS"/>
              </a:rPr>
              <a:t>  </a:t>
            </a:r>
            <a:r>
              <a:rPr b="1" lang="cs-CZ" sz="1400" spc="-1" strike="noStrike">
                <a:solidFill>
                  <a:srgbClr val="3f9c35"/>
                </a:solidFill>
                <a:latin typeface="Arial Unicode MS"/>
              </a:rPr>
              <a:t>zelená linka 800 260 500</a:t>
            </a:r>
            <a:r>
              <a:rPr b="0" lang="cs-CZ" sz="1200" spc="-1" strike="noStrike">
                <a:solidFill>
                  <a:srgbClr val="73767d"/>
                </a:solidFill>
                <a:latin typeface="Arial Unicode MS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cs-CZ" sz="800" spc="-1" strike="noStrike">
                <a:solidFill>
                  <a:srgbClr val="73767d"/>
                </a:solidFill>
                <a:latin typeface="Arial Unicode MS"/>
              </a:rPr>
              <a:t>  </a:t>
            </a:r>
            <a:r>
              <a:rPr b="1" lang="cs-CZ" sz="1400" spc="-1" strike="noStrike">
                <a:solidFill>
                  <a:srgbClr val="0046ad"/>
                </a:solidFill>
                <a:latin typeface="Arial Unicode MS"/>
              </a:rPr>
              <a:t>dotazy@sfzp.c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7927920" y="0"/>
            <a:ext cx="1216080" cy="1216080"/>
          </a:xfrm>
          <a:prstGeom prst="rect">
            <a:avLst/>
          </a:prstGeom>
          <a:solidFill>
            <a:srgbClr val="3f9c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Obrázek 12" descr="Mozaika_prezentace.jpg"/>
          <p:cNvPicPr/>
          <p:nvPr/>
        </p:nvPicPr>
        <p:blipFill>
          <a:blip r:embed="rId3"/>
          <a:srcRect l="0" t="0" r="13223" b="0"/>
          <a:stretch/>
        </p:blipFill>
        <p:spPr>
          <a:xfrm>
            <a:off x="0" y="0"/>
            <a:ext cx="7929720" cy="12160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649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33360" indent="-228600">
              <a:spcBef>
                <a:spcPts val="649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41600" indent="-228600">
              <a:spcBef>
                <a:spcPts val="649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394920" y="6244920"/>
            <a:ext cx="2195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95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7376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038DE-2842-4839-9401-4385271DFD57}" type="slidenum">
              <a:rPr b="0" lang="cs-CZ" sz="1400" spc="-1" strike="noStrike">
                <a:solidFill>
                  <a:srgbClr val="7376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opzp.cz/obecne-pokyny/dokumenty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opzp.cz/obecne-pokyny/dokumenty" TargetMode="External"/><Relationship Id="rId2" Type="http://schemas.openxmlformats.org/officeDocument/2006/relationships/hyperlink" Target="http://www.opzp.cz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58920" y="4508640"/>
            <a:ext cx="835344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Odborný seminář 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539640" y="5084640"/>
            <a:ext cx="4464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 Unicode MS"/>
              </a:rPr>
              <a:t>Ing. Ivana Vráblík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 Unicode MS"/>
              </a:rPr>
              <a:t>SFŽP Č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46080" y="2565360"/>
            <a:ext cx="885672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f9c35"/>
                </a:solidFill>
                <a:latin typeface="Arial Unicode MS"/>
              </a:rPr>
              <a:t>Dočerpání OPŽP 2007 – 2013 a příležitosti       v novém OPŽP 2014 - 20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OPŽP 2014 - 2020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Řídící orgán </a:t>
            </a:r>
            <a:r>
              <a:rPr b="0" lang="cs-CZ" sz="2600" spc="-1" strike="noStrike">
                <a:solidFill>
                  <a:srgbClr val="000000"/>
                </a:solidFill>
                <a:latin typeface="Arial Unicode MS"/>
              </a:rPr>
              <a:t>– Ministerstvo životního prostředí ČR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Certifikační a auditní orgán </a:t>
            </a:r>
            <a:r>
              <a:rPr b="0" lang="cs-CZ" sz="2600" spc="-1" strike="noStrike">
                <a:solidFill>
                  <a:srgbClr val="000000"/>
                </a:solidFill>
                <a:latin typeface="Arial Unicode MS"/>
              </a:rPr>
              <a:t>– Ministerstvo financí ČR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Zprostředkující subjekt 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70c0"/>
                </a:solidFill>
                <a:latin typeface="Arial Unicode MS"/>
              </a:rPr>
              <a:t>Státní fond životního prostředí ČR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Agentura ochrany přírody a krajiny ČR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Národní orgán pro koordinaci </a:t>
            </a:r>
            <a:r>
              <a:rPr b="0" lang="cs-CZ" sz="2600" spc="-1" strike="noStrike">
                <a:solidFill>
                  <a:srgbClr val="000000"/>
                </a:solidFill>
                <a:latin typeface="Arial Unicode MS"/>
              </a:rPr>
              <a:t>– Ministerstvo pro místní rozvoj ČR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5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8E6AE-62E5-436B-A1AF-F73DA49F9A50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Prioritní osy pro období 2014 - 2020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PO 1:</a:t>
            </a: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cs-CZ" sz="2600" spc="-1" strike="noStrike">
                <a:solidFill>
                  <a:srgbClr val="0000cc"/>
                </a:solidFill>
                <a:latin typeface="Arial Unicode MS"/>
              </a:rPr>
              <a:t>Zlepšování kvality vody a snižování rizika </a:t>
            </a:r>
            <a:r>
              <a:rPr b="1" lang="cs-CZ" sz="2600" spc="-1" strike="noStrike">
                <a:solidFill>
                  <a:srgbClr val="0000cc"/>
                </a:solidFill>
                <a:latin typeface="Arial Unicode MS"/>
              </a:rPr>
              <a:t>	</a:t>
            </a:r>
            <a:r>
              <a:rPr b="1" lang="cs-CZ" sz="2600" spc="-1" strike="noStrike">
                <a:solidFill>
                  <a:srgbClr val="0000cc"/>
                </a:solidFill>
                <a:latin typeface="Arial Unicode MS"/>
              </a:rPr>
              <a:t>	</a:t>
            </a:r>
            <a:r>
              <a:rPr b="1" lang="cs-CZ" sz="2600" spc="-1" strike="noStrike">
                <a:solidFill>
                  <a:srgbClr val="0000cc"/>
                </a:solidFill>
                <a:latin typeface="Arial Unicode MS"/>
              </a:rPr>
              <a:t>povodní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PO 2: </a:t>
            </a: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cs-CZ" sz="2600" spc="-1" strike="noStrike">
                <a:solidFill>
                  <a:srgbClr val="00b0f0"/>
                </a:solidFill>
                <a:latin typeface="Arial Unicode MS"/>
              </a:rPr>
              <a:t>Zlepšování kvality ovzduší v lidských </a:t>
            </a:r>
            <a:r>
              <a:rPr b="1" lang="cs-CZ" sz="2600" spc="-1" strike="noStrike">
                <a:solidFill>
                  <a:srgbClr val="00b0f0"/>
                </a:solidFill>
                <a:latin typeface="Arial Unicode MS"/>
              </a:rPr>
              <a:t>	</a:t>
            </a:r>
            <a:r>
              <a:rPr b="1" lang="cs-CZ" sz="2600" spc="-1" strike="noStrike">
                <a:solidFill>
                  <a:srgbClr val="00b0f0"/>
                </a:solidFill>
                <a:latin typeface="Arial Unicode MS"/>
              </a:rPr>
              <a:t>	</a:t>
            </a:r>
            <a:r>
              <a:rPr b="1" lang="cs-CZ" sz="2600" spc="-1" strike="noStrike">
                <a:solidFill>
                  <a:srgbClr val="00b0f0"/>
                </a:solidFill>
                <a:latin typeface="Arial Unicode MS"/>
              </a:rPr>
              <a:t>	</a:t>
            </a:r>
            <a:r>
              <a:rPr b="1" lang="cs-CZ" sz="2600" spc="-1" strike="noStrike">
                <a:solidFill>
                  <a:srgbClr val="00b0f0"/>
                </a:solidFill>
                <a:latin typeface="Arial Unicode MS"/>
              </a:rPr>
              <a:t>sídlech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PO 3: </a:t>
            </a: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cs-CZ" sz="2600" spc="-1" strike="noStrike">
                <a:solidFill>
                  <a:srgbClr val="ffc000"/>
                </a:solidFill>
                <a:latin typeface="Arial Unicode MS"/>
              </a:rPr>
              <a:t>Odpady a materiálové toky, ekologické </a:t>
            </a:r>
            <a:r>
              <a:rPr b="1" lang="cs-CZ" sz="2600" spc="-1" strike="noStrike">
                <a:solidFill>
                  <a:srgbClr val="ffc000"/>
                </a:solidFill>
                <a:latin typeface="Arial Unicode MS"/>
              </a:rPr>
              <a:t>	</a:t>
            </a:r>
            <a:r>
              <a:rPr b="1" lang="cs-CZ" sz="2600" spc="-1" strike="noStrike">
                <a:solidFill>
                  <a:srgbClr val="ffc000"/>
                </a:solidFill>
                <a:latin typeface="Arial Unicode MS"/>
              </a:rPr>
              <a:t>	</a:t>
            </a:r>
            <a:r>
              <a:rPr b="1" lang="cs-CZ" sz="2600" spc="-1" strike="noStrike">
                <a:solidFill>
                  <a:srgbClr val="ffc000"/>
                </a:solidFill>
                <a:latin typeface="Arial Unicode MS"/>
              </a:rPr>
              <a:t>zátěže a rizika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PO 4 : </a:t>
            </a: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cs-CZ" sz="2600" spc="-1" strike="noStrike">
                <a:solidFill>
                  <a:srgbClr val="00b050"/>
                </a:solidFill>
                <a:latin typeface="Arial Unicode MS"/>
              </a:rPr>
              <a:t>Ochrana a péče o přírodu a krajinu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PO 5: </a:t>
            </a: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cs-CZ" sz="2600" spc="-1" strike="noStrike">
                <a:solidFill>
                  <a:srgbClr val="cc0000"/>
                </a:solidFill>
                <a:latin typeface="Arial Unicode MS"/>
              </a:rPr>
              <a:t>Energetické úspory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8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B006-DD7A-44EC-99AD-754FC7C07BE1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Alokace pro jednotlivé prioritní osy pro období 2014-2020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0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17A17-E92F-4AD3-933D-5CA359B062CF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619280" y="1557360"/>
          <a:ext cx="5545080" cy="4443480"/>
        </p:xfrm>
        <a:graphic>
          <a:graphicData uri="http://schemas.openxmlformats.org/drawingml/2006/table">
            <a:tbl>
              <a:tblPr/>
              <a:tblGrid>
                <a:gridCol w="2494080"/>
                <a:gridCol w="1544400"/>
                <a:gridCol w="1506600"/>
              </a:tblGrid>
              <a:tr h="555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 Unicode MS"/>
                          <a:ea typeface="Calibri"/>
                        </a:rPr>
                        <a:t>Prioritní os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 Unicode MS"/>
                          <a:ea typeface="Calibri"/>
                        </a:rPr>
                        <a:t>mil. EU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 Unicode MS"/>
                          <a:ea typeface="Calibri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55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768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453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458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17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351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13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529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73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Celkem (vč. T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2 636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Prioritní osa 1: Specifické cíle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cc"/>
                </a:solidFill>
                <a:latin typeface="Arial Unicode MS"/>
              </a:rPr>
              <a:t>Zlepšování kvality vody a snižování rizika povodní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 Unicode MS"/>
              </a:rPr>
              <a:t>1.1 </a:t>
            </a: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Snížit množství vypouštěného znečištění do povrchových i podzemních vod z komunálních zdrojů a vnos znečišťujících látek do povrchových a podzemních vod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 Unicode MS"/>
              </a:rPr>
              <a:t>1.2 </a:t>
            </a: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Zajistit dodávky pitné vody v odpovídající jakosti a množství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 Unicode MS"/>
              </a:rPr>
              <a:t>1.3 </a:t>
            </a: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Zajistit povodňovou ochranu intravilánu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 Unicode MS"/>
              </a:rPr>
              <a:t>1.4 </a:t>
            </a: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Podpořit preventivní protipovodňová opatření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4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45428-C0F5-4356-AEFE-00760D9484E0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Prioritní osa 2: Specifické cíle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b0f0"/>
                </a:solidFill>
                <a:latin typeface="Arial Unicode MS"/>
              </a:rPr>
              <a:t>Zlepšování kvality ovzduší v lidských sídlech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 Unicode MS"/>
              </a:rPr>
              <a:t>2.1 </a:t>
            </a: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Snížit emise z lokálního vytápění domácností podílející se na expozici obyvatelstva nadlimitním koncentracím znečišťujících látek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 Unicode MS"/>
              </a:rPr>
              <a:t>2.2 </a:t>
            </a: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Snížit emise stacionárních zdrojů podílející se na expozici obyvatelstva nadlimitním koncentracím znečišťujících látek 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 Unicode MS"/>
              </a:rPr>
              <a:t>2.3 </a:t>
            </a: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Zlepšit systém sledování, hodnocení a předpovídání vývoje kvality ovzduší a souvisejících meteorologických aspektů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7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C7B2A-506C-46E6-B939-498A0AE4A69A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Prioritní osa 3: Specifické cíle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95280" y="1341000"/>
            <a:ext cx="8353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000"/>
                </a:solidFill>
                <a:latin typeface="Arial Unicode MS"/>
              </a:rPr>
              <a:t>Odpady a materiálové toky, ekologické zátěže        a rizika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7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Unicode MS"/>
              </a:rPr>
              <a:t>3.1 </a:t>
            </a:r>
            <a:r>
              <a:rPr b="1" lang="cs-CZ" sz="2800" spc="-1" strike="noStrike">
                <a:solidFill>
                  <a:srgbClr val="000000"/>
                </a:solidFill>
                <a:latin typeface="Arial Unicode MS"/>
              </a:rPr>
              <a:t>Prevence vzniku odpadů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7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Unicode MS"/>
              </a:rPr>
              <a:t>3.2 </a:t>
            </a:r>
            <a:r>
              <a:rPr b="1" lang="cs-CZ" sz="2800" spc="-1" strike="noStrike">
                <a:solidFill>
                  <a:srgbClr val="000000"/>
                </a:solidFill>
                <a:latin typeface="Arial Unicode MS"/>
              </a:rPr>
              <a:t>Zvýšit podíl materiálového a energetického využití odpadů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7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Unicode MS"/>
              </a:rPr>
              <a:t>3.3 </a:t>
            </a:r>
            <a:r>
              <a:rPr b="1" lang="cs-CZ" sz="2800" spc="-1" strike="noStrike">
                <a:solidFill>
                  <a:srgbClr val="000000"/>
                </a:solidFill>
                <a:latin typeface="Arial Unicode MS"/>
              </a:rPr>
              <a:t>Rekultivovat staré skládky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7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Unicode MS"/>
              </a:rPr>
              <a:t>3.4 </a:t>
            </a:r>
            <a:r>
              <a:rPr b="1" lang="cs-CZ" sz="2800" spc="-1" strike="noStrike">
                <a:solidFill>
                  <a:srgbClr val="000000"/>
                </a:solidFill>
                <a:latin typeface="Arial Unicode MS"/>
              </a:rPr>
              <a:t>Dokončit inventarizaci a odstranit ekologické zátěže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7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Unicode MS"/>
              </a:rPr>
              <a:t>3.5 </a:t>
            </a:r>
            <a:r>
              <a:rPr b="1" lang="cs-CZ" sz="2800" spc="-1" strike="noStrike">
                <a:solidFill>
                  <a:srgbClr val="000000"/>
                </a:solidFill>
                <a:latin typeface="Arial Unicode MS"/>
              </a:rPr>
              <a:t>Snížit environmentální rizika a rozvíjet systémy jejich řízení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7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0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4EE55-E93E-460D-AD9D-563C7F8DA5DF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Prioritní osa 4: Specifické cíle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b050"/>
                </a:solidFill>
                <a:latin typeface="Arial Unicode MS"/>
              </a:rPr>
              <a:t>Ochrana a péče o přírodu a krajinu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 Unicode MS"/>
              </a:rPr>
              <a:t>4.1 </a:t>
            </a: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Zajistit příznivý stav předmětu ochrany národně významných chráněných území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 Unicode MS"/>
              </a:rPr>
              <a:t>4.2 </a:t>
            </a: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Posílit biodiverzitu 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 Unicode MS"/>
              </a:rPr>
              <a:t>4.3 </a:t>
            </a: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Posílit přirozené funkce krajiny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 Unicode MS"/>
              </a:rPr>
              <a:t>4.4 </a:t>
            </a: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Zlepšit kvalitu prostředí v sídlech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3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C44B4-ED0E-4AF9-B3FE-9A19392CD8CF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Prioritní osa 5: Specifické cíle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cc0000"/>
                </a:solidFill>
                <a:latin typeface="Arial Unicode MS"/>
              </a:rPr>
              <a:t>Energetické</a:t>
            </a:r>
            <a:r>
              <a:rPr b="1" lang="cs-CZ" sz="2400" spc="-1" strike="noStrike">
                <a:solidFill>
                  <a:srgbClr val="cc0000"/>
                </a:solidFill>
                <a:latin typeface="Arial Unicode MS"/>
              </a:rPr>
              <a:t> </a:t>
            </a:r>
            <a:r>
              <a:rPr b="1" lang="cs-CZ" sz="2800" spc="-1" strike="noStrike">
                <a:solidFill>
                  <a:srgbClr val="cc0000"/>
                </a:solidFill>
                <a:latin typeface="Arial Unicode MS"/>
              </a:rPr>
              <a:t>úspory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 Unicode MS"/>
                <a:ea typeface="Arial"/>
              </a:rPr>
              <a:t>5.1 </a:t>
            </a: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Snížit energetickou náročnost veřejných budov a zvýšit využití obnovitelných zdrojů energie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 Unicode MS"/>
                <a:ea typeface="Arial"/>
              </a:rPr>
              <a:t>5.2 </a:t>
            </a: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Dosáhnout vysokého energetického standardu nových veřejných budov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6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698CE-E48A-4190-9BF4-A43274194D0E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Pravidla pro žadatele a příjemce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 Unicode MS"/>
              </a:rPr>
              <a:t>Pravidla  pro žadatele a příjemce (PrŽaP)- </a:t>
            </a:r>
            <a:r>
              <a:rPr b="1" lang="cs-CZ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nahrazují  stávající Implementační dokument, Závazné pokyny pro žadatele a příjemce,  Směrnici MŽP (aktuální k 14.05.2015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Část A – obecné informac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Část B – obecná pravidla (způsobilost výdajů, přijatelnost projektů – obecná část + jednotlivé PO)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Část C – proces administrac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Část D – informace k průřezovým oblastem (publicita, veřejná podpora, indikátory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Přílohy č. 1 - 3  - podklady k žádosti, k RoPD, k ZVA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Příloha č. 4 – přílohy k veřejné podpoř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 Unicode MS"/>
              </a:rPr>
              <a:t>Zadávání veřejných zakázek </a:t>
            </a: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– samostatný dokument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9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7BBEC-A41C-4FCF-BC52-BE12F7773CC4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Podmínky pro administraci  projektů OPŽP 2014-2020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7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 Unicode MS"/>
              </a:rPr>
              <a:t>Obecná pravidla (PrŽaP kapitola B)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7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Unicode MS"/>
              </a:rPr>
              <a:t>Způsobilost výdajů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550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cc"/>
                </a:solidFill>
                <a:latin typeface="Arial Unicode MS"/>
              </a:rPr>
              <a:t>Věcná způsobilost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550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cc"/>
                </a:solidFill>
                <a:latin typeface="Arial Unicode MS"/>
              </a:rPr>
              <a:t>Přiměřenost výdaje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550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cc"/>
                </a:solidFill>
                <a:latin typeface="Arial Unicode MS"/>
              </a:rPr>
              <a:t>Časová způsobilost – od 1. 1. 2014 do 31.12. 2023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550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cc"/>
                </a:solidFill>
                <a:latin typeface="Arial Unicode MS"/>
              </a:rPr>
              <a:t>Místní způsobilost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7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2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9A9C5-52D3-4B07-9B85-FCB50BE75C10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Podpora obcí a měst z OPŽP 2007 - 2013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0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D0CA0-733B-4110-B6F7-A6434BD32228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95280" y="1413000"/>
          <a:ext cx="8280360" cy="4824360"/>
        </p:xfrm>
        <a:graphic>
          <a:graphicData uri="http://schemas.openxmlformats.org/drawingml/2006/table">
            <a:tbl>
              <a:tblPr/>
              <a:tblGrid>
                <a:gridCol w="1996920"/>
                <a:gridCol w="2544840"/>
                <a:gridCol w="3738600"/>
              </a:tblGrid>
              <a:tr h="1197000"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uhrn schválených projektů v rámci OPŽP 2007 – 2013 </a:t>
                      </a:r>
                      <a:r>
                        <a:rPr b="1" i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k 15.06.201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3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oritní o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čet projekt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dpora z ERDF/FS (mld. Kč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4014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 4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7, 645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 4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6, 8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6 1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5, 3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 2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9, 794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, 52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 3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3, 3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6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, 82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elk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9 5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26 , 4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Pravidla způsobilosti výdajů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65320" indent="-26532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 Unicode MS"/>
              </a:rPr>
              <a:t>Přímé realizační náklady 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265320" indent="-265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265320" indent="-26532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 Unicode MS"/>
              </a:rPr>
              <a:t>Projektová příprava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817200" indent="-282960">
              <a:spcBef>
                <a:spcPts val="601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cc"/>
                </a:solidFill>
                <a:latin typeface="Arial Unicode MS"/>
              </a:rPr>
              <a:t>Projektová dokumentac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17200" indent="-282960">
              <a:spcBef>
                <a:spcPts val="601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cc"/>
                </a:solidFill>
                <a:latin typeface="Arial Unicode MS"/>
              </a:rPr>
              <a:t>Studie proveditelnosti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17200" indent="-282960">
              <a:spcBef>
                <a:spcPts val="601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cc"/>
                </a:solidFill>
                <a:latin typeface="Arial Unicode MS"/>
              </a:rPr>
              <a:t>Podkladové studie a analýz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17200" indent="-282960">
              <a:spcBef>
                <a:spcPts val="601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cc"/>
                </a:solidFill>
                <a:latin typeface="Arial Unicode MS"/>
              </a:rPr>
              <a:t>Finanční a ekonomická analýza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17200" indent="-282960">
              <a:spcBef>
                <a:spcPts val="601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cc"/>
                </a:solidFill>
                <a:latin typeface="Arial Unicode MS"/>
              </a:rPr>
              <a:t>Zadávací dokumentac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17200" indent="-282960">
              <a:spcBef>
                <a:spcPts val="601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cc"/>
                </a:solidFill>
                <a:latin typeface="Arial Unicode MS"/>
              </a:rPr>
              <a:t>Vyplnění žádosti v I KP 14+ - </a:t>
            </a:r>
            <a:r>
              <a:rPr b="0" lang="cs-CZ" sz="2400" spc="-1" strike="noStrike">
                <a:solidFill>
                  <a:srgbClr val="ff0000"/>
                </a:solidFill>
                <a:latin typeface="Arial Unicode MS"/>
              </a:rPr>
              <a:t>max. 30 000 Kč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17200" indent="-282960">
              <a:spcBef>
                <a:spcPts val="601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cc"/>
                </a:solidFill>
                <a:latin typeface="Arial Unicode MS"/>
              </a:rPr>
              <a:t>Manažerské řízení přípravy a realizace projektu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5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C36FC-09C0-4978-BF51-EF9BBC1FBD72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Pravidla způsobilosti výdajů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3720" indent="-24372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 Unicode MS"/>
              </a:rPr>
              <a:t>Technický a autorský dozor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243720" indent="-243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cc"/>
                </a:solidFill>
                <a:latin typeface="Arial Unicode MS"/>
              </a:rPr>
              <a:t>Výdaje na </a:t>
            </a:r>
            <a:r>
              <a:rPr b="1" lang="cs-CZ" sz="2600" spc="-1" strike="noStrike">
                <a:solidFill>
                  <a:srgbClr val="0000cc"/>
                </a:solidFill>
                <a:latin typeface="Arial Unicode MS"/>
              </a:rPr>
              <a:t>přípravu projektu a na činnost odborného technického nebo autorského dozoru </a:t>
            </a:r>
            <a:r>
              <a:rPr b="0" lang="cs-CZ" sz="2600" spc="-1" strike="noStrike">
                <a:solidFill>
                  <a:srgbClr val="0000cc"/>
                </a:solidFill>
                <a:latin typeface="Arial Unicode MS"/>
              </a:rPr>
              <a:t>lze považovat za způsobilé maximálně do výše 6 – 10% z celkových způsobilých přímých realizačních výdajů projektů 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243720" indent="-243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243720" indent="-24372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cc"/>
                </a:solidFill>
                <a:latin typeface="Arial Unicode MS"/>
              </a:rPr>
              <a:t>10% - výdaje nepřesahují 1 mil. Kč,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243720" indent="-24372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cc"/>
                </a:solidFill>
                <a:latin typeface="Arial Unicode MS"/>
              </a:rPr>
              <a:t>8% - výdaje nepřesahují 3 mil. Kč,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243720" indent="-24372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cc"/>
                </a:solidFill>
                <a:latin typeface="Arial Unicode MS"/>
              </a:rPr>
              <a:t>7% - výdaje nepřesahují 10 mil. Kč,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243720" indent="-24372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cc"/>
                </a:solidFill>
                <a:latin typeface="Arial Unicode MS"/>
              </a:rPr>
              <a:t>6% - výdaje jsou vyšší než 10 mil. Kč. 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243720" indent="-24372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8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F5C23-BF60-4968-8B45-4369F685FAE1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Pravidla způsobilosti výdajů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268200" indent="-2682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2" marL="268200" indent="-2682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 Unicode MS"/>
              </a:rPr>
              <a:t>Daň z přidané hodnoty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268200" indent="-2682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 Unicode MS"/>
              </a:rPr>
              <a:t>Osobní náklady 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2" marL="268200" indent="-268200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cc"/>
                </a:solidFill>
                <a:latin typeface="Arial Unicode MS"/>
              </a:rPr>
              <a:t>Pouze pro PO 1 SC 1.4, PO 2 SC 2.1, PO 3 SC 3.4 a PO 4 SC 4.1, 4.2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268200" indent="-2682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 Unicode MS"/>
              </a:rPr>
              <a:t>Pořízení nemovitostí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268200" indent="-2682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 Unicode MS"/>
              </a:rPr>
              <a:t>Propagační opatření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2" marL="268200" indent="-268200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 Unicode MS"/>
              </a:rPr>
              <a:t>Dána maximální výše nákladů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268200" indent="-2682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 Unicode MS"/>
              </a:rPr>
              <a:t>Způsobilost výdajů u veřejné podpory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1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67B6E-1FF1-4DD6-9DA2-0B56EDF6738A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Podmínky pro administraci  projektů OPŽP 2014-2020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7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 Unicode MS"/>
              </a:rPr>
              <a:t>Nezpůsobilé výdaje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Rozpočtová rezerva ( s výjimkou SC 3.4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7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 Unicode MS"/>
              </a:rPr>
              <a:t>Forma a výše podpory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Dotace max. 85 % z celkových způsobilých výdajů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Finanční nástroje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7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 Unicode MS"/>
              </a:rPr>
              <a:t>Podmínky pro přijatelnost projektů, specifické nezpůsobilé a způsobilé výdaje, forma a výše podpory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Uvedeno pro každou PO, SC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4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4868A-09A1-4C85-9795-5D42D8B720EF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Informace k MS2014+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7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 Unicode MS"/>
              </a:rPr>
              <a:t>MS2014+</a:t>
            </a:r>
            <a:r>
              <a:rPr b="0" lang="cs-CZ" sz="2800" spc="-1" strike="noStrike">
                <a:solidFill>
                  <a:srgbClr val="000000"/>
                </a:solidFill>
                <a:latin typeface="Arial Unicode MS"/>
              </a:rPr>
              <a:t> v rámci všech operačních programů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7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Unicode MS"/>
              </a:rPr>
              <a:t>Uživatelé systému neinstalují do počítače žádný program – veškerá administrace probíhá v okně internetového prohlížeče (portál IS KP14+)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7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Unicode MS"/>
              </a:rPr>
              <a:t>Elektronické podání žádosti o podporu (prostřednictvím elektronického podpisu)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7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Unicode MS"/>
              </a:rPr>
              <a:t>Veškerá komunikace mezi uživateli bude probíhat elektronicky (tzv. interní depeše)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7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7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F47F-392E-4875-BBB7-22FB4625AAC3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DF735-7648-4A02-BF72-B7C1D3D40171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 Unicode MS"/>
              </a:rPr>
              <a:t>Děkuji Vám za pozornost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1692360" y="5300640"/>
            <a:ext cx="705636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tátní fond životního prostředí České republiky, Kaplanova 1931/1, 148 00 Praha 11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orespondenční a kontaktní adresa: Olbrachtova 2006/9, 140 00  Praha 4,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tel.: +420 267 994 2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46ad"/>
                </a:solidFill>
                <a:latin typeface="Arial Unicode MS"/>
              </a:rPr>
              <a:t>Ivana.vrablikova@sfzp.cz </a:t>
            </a:r>
            <a:r>
              <a:rPr b="0" lang="cs-CZ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400" spc="-1" strike="noStrike">
                <a:solidFill>
                  <a:srgbClr val="0046ad"/>
                </a:solidFill>
                <a:latin typeface="Arial Unicode MS"/>
              </a:rPr>
              <a:t>www.opzp.cz</a:t>
            </a:r>
            <a:r>
              <a:rPr b="0" lang="cs-CZ" sz="1200" spc="-1" strike="noStrike">
                <a:solidFill>
                  <a:srgbClr val="73767d"/>
                </a:solidFill>
                <a:latin typeface="JohnSans Text Pro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cs-CZ" sz="800" spc="-1" strike="noStrike">
                <a:solidFill>
                  <a:srgbClr val="73767d"/>
                </a:solidFill>
                <a:latin typeface="JohnSans Text Pro"/>
              </a:rPr>
              <a:t>  </a:t>
            </a:r>
            <a:r>
              <a:rPr b="1" lang="cs-CZ" sz="1400" spc="-1" strike="noStrike">
                <a:solidFill>
                  <a:srgbClr val="3f9c35"/>
                </a:solidFill>
                <a:latin typeface="Arial Unicode MS"/>
              </a:rPr>
              <a:t>zelená linka 800 260 500</a:t>
            </a:r>
            <a:r>
              <a:rPr b="0" lang="cs-CZ" sz="1200" spc="-1" strike="noStrike">
                <a:solidFill>
                  <a:srgbClr val="73767d"/>
                </a:solidFill>
                <a:latin typeface="JohnSans Text Pro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cs-CZ" sz="800" spc="-1" strike="noStrike">
                <a:solidFill>
                  <a:srgbClr val="73767d"/>
                </a:solidFill>
                <a:latin typeface="Arial Unicode MS"/>
              </a:rPr>
              <a:t>  </a:t>
            </a:r>
            <a:r>
              <a:rPr b="1" lang="cs-CZ" sz="1400" spc="-1" strike="noStrike">
                <a:solidFill>
                  <a:srgbClr val="0046ad"/>
                </a:solidFill>
                <a:latin typeface="Arial Unicode MS"/>
              </a:rPr>
              <a:t>dotazy@sfzp.c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7" descr="SFZP_H_RGB_NEW"/>
          <p:cNvPicPr/>
          <p:nvPr/>
        </p:nvPicPr>
        <p:blipFill>
          <a:blip r:embed="rId1"/>
          <a:srcRect l="0" t="0" r="71719" b="0"/>
          <a:stretch/>
        </p:blipFill>
        <p:spPr>
          <a:xfrm>
            <a:off x="539640" y="5373720"/>
            <a:ext cx="865440" cy="839880"/>
          </a:xfrm>
          <a:prstGeom prst="rect">
            <a:avLst/>
          </a:prstGeom>
          <a:ln w="0">
            <a:noFill/>
          </a:ln>
        </p:spPr>
      </p:pic>
      <p:pic>
        <p:nvPicPr>
          <p:cNvPr id="173" name="Obrázek 7" descr="Mozaika_prezentac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21608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4"/>
          <p:cNvSpPr/>
          <p:nvPr/>
        </p:nvSpPr>
        <p:spPr>
          <a:xfrm>
            <a:off x="1692360" y="4071960"/>
            <a:ext cx="705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 Unicode MS"/>
              </a:rPr>
              <a:t>Ing. Ivana Vráblík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ředitelka odboru ochrany vod, SFŽP Č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Poslední výzvy OPŽP 2007-2013 v roce 2015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64. výzva </a:t>
            </a:r>
            <a:r>
              <a:rPr b="0" lang="cs-CZ" sz="2600" spc="-1" strike="noStrike">
                <a:solidFill>
                  <a:srgbClr val="000000"/>
                </a:solidFill>
                <a:latin typeface="Arial Unicode MS"/>
              </a:rPr>
              <a:t>– pro PO 3, 4 a 6</a:t>
            </a:r>
            <a:br>
              <a:rPr sz="2600"/>
            </a:br>
            <a:r>
              <a:rPr b="0" lang="cs-CZ" sz="2600" spc="-1" strike="noStrike">
                <a:solidFill>
                  <a:srgbClr val="000000"/>
                </a:solidFill>
                <a:latin typeface="Arial Unicode MS"/>
              </a:rPr>
              <a:t>Výzva je uzavřena, žádosti jsou vyhodnoceny a schváleny k financování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65. výzva </a:t>
            </a:r>
            <a:r>
              <a:rPr b="0" lang="cs-CZ" sz="2600" spc="-1" strike="noStrike">
                <a:solidFill>
                  <a:srgbClr val="000000"/>
                </a:solidFill>
                <a:latin typeface="Arial Unicode MS"/>
              </a:rPr>
              <a:t>– pro PO 7</a:t>
            </a:r>
            <a:br>
              <a:rPr sz="2600"/>
            </a:br>
            <a:r>
              <a:rPr b="0" lang="cs-CZ" sz="2600" spc="-1" strike="noStrike">
                <a:solidFill>
                  <a:srgbClr val="000000"/>
                </a:solidFill>
                <a:latin typeface="Arial Unicode MS"/>
              </a:rPr>
              <a:t>Výzva je uzavřena, žádosti jsou vyhodnoceny a schváleny k financování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66. výzva </a:t>
            </a:r>
            <a:r>
              <a:rPr b="0" lang="cs-CZ" sz="2600" spc="-1" strike="noStrike">
                <a:solidFill>
                  <a:srgbClr val="000000"/>
                </a:solidFill>
                <a:latin typeface="Arial Unicode MS"/>
              </a:rPr>
              <a:t>-</a:t>
            </a: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Arial Unicode MS"/>
              </a:rPr>
              <a:t>pro PO 6</a:t>
            </a:r>
            <a:br>
              <a:rPr sz="2600"/>
            </a:br>
            <a:r>
              <a:rPr b="0" lang="cs-CZ" sz="2600" spc="-1" strike="noStrike">
                <a:solidFill>
                  <a:srgbClr val="000000"/>
                </a:solidFill>
                <a:latin typeface="Arial Unicode MS"/>
              </a:rPr>
              <a:t>Příjem žádostí do 19.06.2015.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4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98222-56D6-43FB-B37A-3BCE548E6CAD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Konec financování OPŽP 2007-2013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24000" y="134100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spcBef>
                <a:spcPts val="601"/>
              </a:spcBef>
              <a:spcAft>
                <a:spcPts val="601"/>
              </a:spcAft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 Unicode MS"/>
              </a:rPr>
              <a:t>31.12.2015 = konec způsobilosti výdajů OPŽP 2007-2013 </a:t>
            </a: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(tj. datum vystavení faktury </a:t>
            </a:r>
            <a:r>
              <a:rPr b="0" lang="pl-PL" sz="2400" spc="-1" strike="noStrike">
                <a:solidFill>
                  <a:srgbClr val="000000"/>
                </a:solidFill>
                <a:latin typeface="Arial Unicode MS"/>
              </a:rPr>
              <a:t>a datum uhrazení faktury dodavateli musí proběhnout do 31.12.2015)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 algn="just">
              <a:spcBef>
                <a:spcPts val="601"/>
              </a:spcBef>
              <a:spcAft>
                <a:spcPts val="601"/>
              </a:spcAft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Předpokládaný termín pro podání posledních Žádostí o platbu je </a:t>
            </a:r>
            <a:r>
              <a:rPr b="1" lang="cs-CZ" sz="2400" spc="-1" strike="noStrike">
                <a:solidFill>
                  <a:srgbClr val="000000"/>
                </a:solidFill>
                <a:latin typeface="Arial Unicode MS"/>
              </a:rPr>
              <a:t>konec listopadu 2015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01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Počátkem roku 2016 bude výjimečně možné podat  ŽoP (pouze formou tzv. ex-post platby) na faktury vystavené v 11 – 12/2015 a uhrazené dodavateli do 31.12.2015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 algn="just">
              <a:spcBef>
                <a:spcPts val="601"/>
              </a:spcBef>
              <a:spcAft>
                <a:spcPts val="601"/>
              </a:spcAft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Do konce roku 2015 je nezbytné vyrovnat veškeré závazky příjemců podpory vůči dodavatelům ve smyslu Závazných pokynů pro žadatele a příjemce podpory, kapitoly „Zásady financování – náležitosti Žádosti o platbu“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01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7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B9BF-FF9A-4640-8298-EEE8DFDF3917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 Unicode MS"/>
              </a:rPr>
              <a:t>OPŽP 2007-2013 – vyhodnocení  programu a cílů projektů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601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Způsobilost výdajů 31.12.2015 (Nařízení komise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01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Závěrečná zpráva programu 31.3.2017 (Pokyny EK k uzavření programů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01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Limitní termín  pro závěrečné vyhodnocení akce 30.11.2016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01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Termín uvedení stavby do trvalého provozu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(naplnit podmínky pro provozování vodohospodářské infrastruktury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01"/>
              </a:spcBef>
              <a:buClr>
                <a:srgbClr val="0046a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f9c35"/>
                </a:solidFill>
                <a:latin typeface="Arial Unicode MS"/>
              </a:rPr>
              <a:t>ADMINISTRATIVNÍ KÁZEŇ, NENÍ MOŽNÉ PLOŠNÉ PRODLUŽOVÁNÍ TERMÍNŮ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01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0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D20A5-5E19-4155-9716-AFA5C599901E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Návaznost OPŽP 2007-13 a 2014-2020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2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72E79-0ADB-4330-B448-D2D86F1AF5D9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95280" y="1341000"/>
            <a:ext cx="82152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spcBef>
                <a:spcPts val="601"/>
              </a:spcBef>
              <a:spcAft>
                <a:spcPts val="601"/>
              </a:spcAft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OPŽP 2014-2020 svým zaměřením navazuje na OPŽP 2007-2013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 algn="just">
              <a:spcBef>
                <a:spcPts val="601"/>
              </a:spcBef>
              <a:spcAft>
                <a:spcPts val="601"/>
              </a:spcAft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využívá získaných zkušeností, které směřují k nastavení efektivního a kvalitního systému podpory ochrany životního prostředí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 algn="just">
              <a:spcBef>
                <a:spcPts val="601"/>
              </a:spcBef>
              <a:spcAft>
                <a:spcPts val="601"/>
              </a:spcAft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oproti předchozímu OPŽP 2007-2013 je více koncentrován na identifikované prioritní problém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 algn="just">
              <a:spcBef>
                <a:spcPts val="601"/>
              </a:spcBef>
              <a:spcAft>
                <a:spcPts val="601"/>
              </a:spcAft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přípravy na programové období 2014-2020 probíhají v ČR již od roku 2010, v čele procesu přípravy je MMR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 spd="slow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Porovnání alokace  OPŽP 2007-2013          a OPŽP  2014-2020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5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B6BF3-9CFC-4875-A3D3-C8E4D014F110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68360" y="2692440"/>
          <a:ext cx="8104320" cy="1279440"/>
        </p:xfrm>
        <a:graphic>
          <a:graphicData uri="http://schemas.openxmlformats.org/drawingml/2006/table">
            <a:tbl>
              <a:tblPr/>
              <a:tblGrid>
                <a:gridCol w="1944720"/>
                <a:gridCol w="3079800"/>
                <a:gridCol w="307980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597a0"/>
                      </a:solidFill>
                    </a:lnL>
                    <a:lnR w="5760">
                      <a:solidFill>
                        <a:srgbClr val="4597a0"/>
                      </a:solidFill>
                    </a:lnR>
                    <a:lnT w="13680">
                      <a:solidFill>
                        <a:srgbClr val="4597a0"/>
                      </a:solidFill>
                    </a:lnT>
                    <a:lnB w="18720">
                      <a:solidFill>
                        <a:srgbClr val="4597a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OPŽP 2007-20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597a0"/>
                      </a:solidFill>
                    </a:lnL>
                    <a:lnR w="5760">
                      <a:solidFill>
                        <a:srgbClr val="4597a0"/>
                      </a:solidFill>
                    </a:lnR>
                    <a:lnT w="13680">
                      <a:solidFill>
                        <a:srgbClr val="4597a0"/>
                      </a:solidFill>
                    </a:lnT>
                    <a:lnB w="18720">
                      <a:solidFill>
                        <a:srgbClr val="4597a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OPŽP 2014-20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597a0"/>
                      </a:solidFill>
                    </a:lnL>
                    <a:lnR w="13680">
                      <a:solidFill>
                        <a:srgbClr val="4597a0"/>
                      </a:solidFill>
                    </a:lnR>
                    <a:lnT w="13680">
                      <a:solidFill>
                        <a:srgbClr val="4597a0"/>
                      </a:solidFill>
                    </a:lnT>
                    <a:lnB w="18720">
                      <a:solidFill>
                        <a:srgbClr val="4597a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Celkem (EUR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597a0"/>
                      </a:solidFill>
                    </a:lnL>
                    <a:lnR w="5760">
                      <a:solidFill>
                        <a:srgbClr val="4597a0"/>
                      </a:solidFill>
                    </a:lnR>
                    <a:lnT w="18720">
                      <a:solidFill>
                        <a:srgbClr val="4597a0"/>
                      </a:solidFill>
                    </a:lnT>
                    <a:lnB w="5760">
                      <a:solidFill>
                        <a:srgbClr val="4597a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4 643 206 2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597a0"/>
                      </a:solidFill>
                    </a:lnL>
                    <a:lnR w="5760">
                      <a:solidFill>
                        <a:srgbClr val="4597a0"/>
                      </a:solidFill>
                    </a:lnR>
                    <a:lnT w="18720">
                      <a:solidFill>
                        <a:srgbClr val="4597a0"/>
                      </a:solidFill>
                    </a:lnT>
                    <a:lnB w="5760">
                      <a:solidFill>
                        <a:srgbClr val="4597a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2 636 592 8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597a0"/>
                      </a:solidFill>
                    </a:lnL>
                    <a:lnR w="13680">
                      <a:solidFill>
                        <a:srgbClr val="4597a0"/>
                      </a:solidFill>
                    </a:lnR>
                    <a:lnT w="18720">
                      <a:solidFill>
                        <a:srgbClr val="4597a0"/>
                      </a:solidFill>
                    </a:lnT>
                    <a:lnB w="5760">
                      <a:solidFill>
                        <a:srgbClr val="4597a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A6BDB-8F6A-4BBA-9C1F-9F2FAC034550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Aktuální stav  přípravy OPŽP 2014-2020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393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spcBef>
                <a:spcPts val="601"/>
              </a:spcBef>
              <a:spcAft>
                <a:spcPts val="601"/>
              </a:spcAft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Dohoda o partnerství – schválena Evropskou komisí 26.8. 2014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 algn="just">
              <a:spcBef>
                <a:spcPts val="601"/>
              </a:spcBef>
              <a:spcAft>
                <a:spcPts val="601"/>
              </a:spcAft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OPŽP schválen Evropskou komisí 30.4. 2015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 algn="just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 Unicode MS"/>
              </a:rPr>
              <a:t>Programový dokument </a:t>
            </a:r>
            <a:r>
              <a:rPr b="0" lang="cs-CZ" sz="2200" spc="-1" strike="noStrike">
                <a:solidFill>
                  <a:srgbClr val="000000"/>
                </a:solidFill>
                <a:latin typeface="Arial Unicode MS"/>
              </a:rPr>
              <a:t>– verze č. 9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01"/>
              </a:spcBef>
              <a:spcAft>
                <a:spcPts val="601"/>
              </a:spcAft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 Unicode MS"/>
              </a:rPr>
              <a:t>Pravidla pro žadatele a příjemce </a:t>
            </a: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– dokument zveřejněn  14. 5. 2015  na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 Unicode MS"/>
                <a:hlinkClick r:id="rId1"/>
              </a:rPr>
              <a:t>http://www.opzp.cz/obecne-pokyny/dokumenty</a:t>
            </a: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 spd="slow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BD7DB-19B1-482E-99E1-35ED1FD2AAAF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Aktuální stav  přípravy OPŽP 2014-2020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393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1200" indent="-241200" algn="just">
              <a:spcBef>
                <a:spcPts val="601"/>
              </a:spcBef>
              <a:spcAft>
                <a:spcPts val="601"/>
              </a:spcAft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Předběžný harmonogram výzev – zveřejněn na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 Unicode MS"/>
                <a:hlinkClick r:id="rId1"/>
              </a:rPr>
              <a:t>http://www.opzp.cz/obecne-pokyny/dokument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41200" indent="-241200" algn="just">
              <a:spcBef>
                <a:spcPts val="601"/>
              </a:spcBef>
              <a:spcAft>
                <a:spcPts val="601"/>
              </a:spcAft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Avízo výzev – zveřejněno na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 Unicode MS"/>
              </a:rPr>
              <a:t>http://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 Unicode MS"/>
                <a:hlinkClick r:id="rId2"/>
              </a:rPr>
              <a:t>www.opzp.cz</a:t>
            </a: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41200" indent="-241200" algn="just">
              <a:spcBef>
                <a:spcPts val="601"/>
              </a:spcBef>
              <a:spcAft>
                <a:spcPts val="601"/>
              </a:spcAft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 Unicode MS"/>
              </a:rPr>
              <a:t>16. 6. 2015 – 1. jednání Monitorovacího výboru OPŽP  – schválení části B PrŽaP a hodnotících kritérií pro první vlnu výzev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41200" indent="-241200" algn="just">
              <a:spcBef>
                <a:spcPts val="601"/>
              </a:spcBef>
              <a:spcAft>
                <a:spcPts val="601"/>
              </a:spcAft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 Unicode MS"/>
              </a:rPr>
              <a:t>19.6. 2015 vyhlášení  prvních   výzev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41200" indent="-241200" algn="just">
              <a:spcBef>
                <a:spcPts val="601"/>
              </a:spcBef>
              <a:spcAft>
                <a:spcPts val="601"/>
              </a:spcAft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 Unicode MS"/>
              </a:rPr>
              <a:t>19.6.2015 zveřejnění verze PrŽaP schválené Monitorovacím výborem OPŽP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41200" indent="-241200" algn="just">
              <a:spcBef>
                <a:spcPts val="601"/>
              </a:spcBef>
              <a:spcAft>
                <a:spcPts val="601"/>
              </a:spcAft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 Unicode MS"/>
              </a:rPr>
              <a:t>14. 8. 2015 - 13.11.2015 - příjem žádostí u vyhlášených výzev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6T09:18:41Z</dcterms:created>
  <dc:creator>Milena Pecnová</dc:creator>
  <dc:description/>
  <dc:language>en-US</dc:language>
  <cp:lastModifiedBy>Capkova Dagmar</cp:lastModifiedBy>
  <dcterms:modified xsi:type="dcterms:W3CDTF">2015-06-26T08:12:42Z</dcterms:modified>
  <cp:revision>110</cp:revision>
  <dc:subject/>
  <dc:title>Snímek 1</dc:title>
</cp:coreProperties>
</file>