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EF4-81AA-4ACB-914A-F925F992DA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DE02-E6D3-4E76-9C65-EC00E2F8A9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BCD-3EC3-4838-BF18-90817186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6DF-DDFB-4C42-940C-C7BB536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A01-D49F-4F72-BC5F-68739842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867-5735-496E-A5FB-E154CF11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C9E-B5CA-4321-BF9C-FE67E65C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221-7496-41B8-8AEB-9CF44E71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FB5C-8D2A-4F1F-A8A6-8E6DF7A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9876-BE80-4DE1-8092-14380625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4E4C-76B4-470C-8DC1-802F12B4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7FF0-09A3-476F-B083-A0F2CF3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6267-FCAD-4456-A734-A78EF24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AEA-DC82-4E40-91B7-64983968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061-2D07-4E2E-812C-DF8EF2F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E78-40E6-46A0-BCBC-DFB049F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69AF-AE7C-4F54-B85E-74ECF794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25DA-A783-4963-B308-8CA9297D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E1B1-569C-4F32-8662-E744A0D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481-21B6-4388-8C7A-E356AE4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112-F8CC-45CB-B3CA-2A800B7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0C9-C42B-414C-B40F-C01D0BA0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8D9-7FF5-4189-8A18-839EEC45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8DC-E04E-4195-B197-964CE44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E83-DC5D-4AD9-AD2C-9DB9AEC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78C-72DA-4663-854B-D02F0DE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575-AAF7-464B-ADDF-C6787D545F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8A6-6A34-45EE-A960-A4678B322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4920" y="2852280"/>
            <a:ext cx="82486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ý Operační program 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ORITNÍ OS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692360" y="44370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artina Jirou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Pravidla pro žadatele a příjemce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28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Způsobilé náklady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jektová příprava + TDI 6-10%, nemovitosti do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Výš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y: Max 85% FS, Mimo veřejnou podpo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řejná podpora (de minimis, regionální podpora, energetické využití ??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nanční nástroje (svozová auta a projekty zaměřené na jiné než komunální odpa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Způsobilí příjemci podpory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dnikatelské i veřejné subjekty (ne fyzické oso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Kritéria přijatelnosti projektů a hodnocení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chází z OPŽP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Část C – procesy a pravidla administra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žádost, příprava RoPD, financování, Z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Část D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ublicita, ZVZ, Veřejná podp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říloha č.1 - Přílohy k žádosti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naha o maximální zjednodušení (jen to nejdůležitější), el. pod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opzp.cz/dokumenty/download/33-1-16255-11_przap_2014_2020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 IS OPŽP 2014-202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rcRect l="0" t="10800" r="1281" b="4581"/>
          <a:stretch/>
        </p:blipFill>
        <p:spPr>
          <a:xfrm>
            <a:off x="755640" y="1181160"/>
            <a:ext cx="7684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rmonogram výz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341360"/>
          <a:ext cx="8208720" cy="5183280"/>
        </p:xfrm>
        <a:graphic>
          <a:graphicData uri="http://schemas.openxmlformats.org/drawingml/2006/table">
            <a:tbl>
              <a:tblPr/>
              <a:tblGrid>
                <a:gridCol w="1280880"/>
                <a:gridCol w="1281240"/>
                <a:gridCol w="1631880"/>
                <a:gridCol w="1630440"/>
                <a:gridCol w="907920"/>
                <a:gridCol w="738360"/>
                <a:gridCol w="738000"/>
              </a:tblGrid>
              <a:tr h="136440"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specifického cí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ření výzv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tavení výzv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ní os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ký cí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orované aktiv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 výzv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pokládaný datum zahájení přijmu žádostí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pokládaný datum ukončení příjmu žádostí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bc143"/>
                    </a:solidFill>
                  </a:tcPr>
                </a:tc>
              </a:tr>
              <a:tr h="63360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Snížit množství vypouštěného znečištění do povrchových i podzemních vod z komunálních zdrojů a vnos znečišťujících látek do povrchových a podzemních v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rojektů v 1. fázi fázovací výzvy OPŽP 2007-20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rojektů v 1. fázi fázovací výzvy OPŽP 2007-20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fáze fázovací výzvy, nehodnocená výzv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Snížit množství vypouštěného znečištění do povrchových i podzemních vod z komunálních zdrojů a vnos znečišťujících látek do povrchových a podzemních v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Zajistit dodávky pitné vody v odpovídající jakosti a množství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rojektů v 1. fázi fázovací výzvy OPŽP 2007-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e projektů v 1. fázi fázovací výzvy OPŽP 2007-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fáze fázovací výzvy, nehodnocená výzv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Zajistit dodávky pitné vody v odpovídající jakosti a množství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Zajistit povodňovou ochranu intravilá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ezení na aktivity 1.3.2, 1.3.3 a bezpečnostní přelivy v 1.3.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Podpořit preventivní protipovodňová opatření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ezení na aktivitu 1.4.3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 Snížit emise z lokálního vytápění domácností podílející se na expozici obyvatelstva nadlimitním koncentracím znečišťujících lát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 - grantové sché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 Snížit emise stacionárních zdrojů podílející se na expozici obyvatelstva nadlimitním koncentracím znečišťujících látek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Zlepšit systém sledování, hodnocení a předpovídání vývoje kvality ovzduší a souvisejících meteorologických aspektů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 Zvýšit podíl materiálového a energetického využití odpadů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ty 3.2.1+3.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Rekultivovat staré skládk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 Dokončit inventarizaci a odstranit ekologické zátěž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ezení na aktivity 3.4.2 a 3.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8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11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 Snížit environmentální rizika a rozvíjet systémy jejich řízen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omezení, dle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ová (soutěžní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10.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1. 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ízo výz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9"/>
          <p:cNvSpPr/>
          <p:nvPr/>
        </p:nvSpPr>
        <p:spPr>
          <a:xfrm>
            <a:off x="539640" y="1557360"/>
            <a:ext cx="80647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ioritní os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fický cíl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výšit podíl materiálového a energetického využití odp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ita 3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y pro separaci (bez svozových prostředků) biologicky rozložitelných odpadů (BRO) z nezemědělské činnosti, plastů, papíru, skla, kovů, texti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nápojových karton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tavba/vybavení/modernizace sběrných dv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ita 3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Výstavba/vybavení/modernizace kompostáren (pouze zařízení provozovaná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v souladu s § 14 odst. 1 zákona o odpad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mezení žadate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veřejný žadatel (obce, města, kraje, svazky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říje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žádostí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13. 11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http://www.opzp.cz/dokumenty/download/48-1-16244-01_avizo_vyzev_opzp_2014_202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ízo výz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9"/>
          <p:cNvSpPr/>
          <p:nvPr/>
        </p:nvSpPr>
        <p:spPr>
          <a:xfrm>
            <a:off x="539640" y="1557360"/>
            <a:ext cx="806472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ioritní os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fický cíl 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končit inventarizaci a odstranit staré ekologické zátě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ita 3.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lizace průzkumných prací, analýz riz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ita 3.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nace vážně kontaminovaných lok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říje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žádostí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13. 11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http://www.opzp.cz/dokumenty/download/48-1-16244-01_avizo_vyzev_opzp_2014_202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99"/>
                </a:solidFill>
                <a:latin typeface="Arial"/>
              </a:rPr>
              <a:t>Na co si dát po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t s projektem kontakt, i když máte dobrého konzult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rý projekt, změny stavby v průběhu akce jsou rizi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ýza potenciálu odpadů: evidence odpadů, reálná čísla, os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dávací řízení: dobrá ZD, změny legislativy, kore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podmínky rozhodnutí, termíny, závazné ukaz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držitelnost projektu: 5 let od uvedení do provo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FB3-C98C-40D7-808A-2F7E66E9A2F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92360" y="4437000"/>
            <a:ext cx="70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Martina Jirou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dbor odpadového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692360" y="5300640"/>
            <a:ext cx="705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jmeno.prijmeni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29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PŽP pro roky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ravy na programové období 2014-2020 probíhají v ČR již od roku 2010, v čele procesu přípravy je M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ŽP 2014-2020 svým zaměřením navazuje na OPŽP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získaných zkušeností, které směřují k nastavení efektivního a kvalitního systému podpory ochrany život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836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7f7f7f"/>
                </a:solidFill>
                <a:latin typeface="Arial"/>
              </a:rPr>
              <a:t>PO 1: Zlepšování kvality vody a snižování rizika pov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1.1 Snížit množství vypouštěného znečištění do povrchových i podzemních vod z komunálních zdrojů a zajistit dodávky pitné vody v odpovídající jakosti a množstv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1.2 Snížit vnos znečišťujících látek do povrchových a podzemních v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1.3 Zajistit povodňovou ochranu intravilán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1.4 Podpořit preventivní protipovodňová opatře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7f7f7f"/>
                </a:solidFill>
                <a:latin typeface="Arial"/>
              </a:rPr>
              <a:t>PO 2: Zlepšování kvality ovzduší v lidských sídl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2.1 Snížit emise z lokálního vytápění domácností podílející se na expozici obyvatelstva nadlimitním koncentracím znečišťujících lát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2.2 Snížit emise stacionárních zdrojů podílející se na expozici obyvatelstva nadlimitním koncentracím znečišťujících lát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2.3 Zlepšit systém sledování, hodnocení a předpovídání vývoje kvality ovzduší, počasí a klimatu a ozonové vrstvy Zem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3: Odpady a materiálové toky, ekologické zátěže a riz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.1 Předcházet vzniku odpadů a snížit vliv nebezpečných vlastností odpad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.2 Zvýšit podíl materiálového a energetického využití odpad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.3 Rekultivovat staré sklád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.4 Odstranit a inventarizovat ekologické zátě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3.5 Snižovat environmentální rizika a rozvíjet systémy jejich říze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7f7f7f"/>
                </a:solidFill>
                <a:latin typeface="Arial"/>
              </a:rPr>
              <a:t>PO 4 : Ochrana a péče o přírodu a kraji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4.1 Posílit biodiverzitu na majetku ČR ve správě rezortních organizací Č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4.2 Posílit biodiverzit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4.3 Posílit přirozené funkce kraji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4.4 Zlepšit kvalitu prostředí v sídl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7f7f7f"/>
                </a:solidFill>
                <a:latin typeface="Arial"/>
              </a:rPr>
              <a:t>PO 5: Energetické úsp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f7f7f"/>
                </a:solidFill>
                <a:latin typeface="Arial"/>
              </a:rPr>
              <a:t>5.1 Snížit energetickou náročnost veřejných budov a zvýšit využití obnovitelných zdrojů ene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4608360" cy="330336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3"/>
          <p:cNvSpPr/>
          <p:nvPr/>
        </p:nvSpPr>
        <p:spPr>
          <a:xfrm>
            <a:off x="1476360" y="836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Alokace pro jednotlivé prioritní o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ál 4"/>
          <p:cNvSpPr/>
          <p:nvPr/>
        </p:nvSpPr>
        <p:spPr>
          <a:xfrm>
            <a:off x="1332000" y="3284640"/>
            <a:ext cx="5400720" cy="792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187280" y="2276640"/>
          <a:ext cx="6985080" cy="3220920"/>
        </p:xfrm>
        <a:graphic>
          <a:graphicData uri="http://schemas.openxmlformats.org/drawingml/2006/table">
            <a:tbl>
              <a:tblPr/>
              <a:tblGrid>
                <a:gridCol w="1638360"/>
                <a:gridCol w="1559160"/>
                <a:gridCol w="1261800"/>
                <a:gridCol w="1289160"/>
                <a:gridCol w="1236600"/>
              </a:tblGrid>
              <a:tr h="61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pecifického cí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v EUR dle P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v CZK dle 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kace v % dle specifických cí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1: Prevence vzniku odpad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 731 044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764 738 188 K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2: Zvýšit podíl materiálového a energetického využití odpad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3: Rekultivovat staré sklád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4: Dokončit inventarizaci a odstranit ekologické zátěž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ovéPole 4"/>
          <p:cNvSpPr/>
          <p:nvPr/>
        </p:nvSpPr>
        <p:spPr>
          <a:xfrm>
            <a:off x="1403280" y="907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Alokované prostředky FS na SC 3.1 až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cký cíl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3"/>
          <p:cNvSpPr/>
          <p:nvPr/>
        </p:nvSpPr>
        <p:spPr>
          <a:xfrm>
            <a:off x="611280" y="198900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orované ak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1.1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ázení vzniku komunálních odpadů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1.2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ázení vzniku průmyslových odpadů (např. aplikace technologií, které sníží měrné množství odpadů vznikající ve výrobě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cký cíl 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3"/>
          <p:cNvSpPr/>
          <p:nvPr/>
        </p:nvSpPr>
        <p:spPr>
          <a:xfrm>
            <a:off x="468360" y="1484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orované ak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2.1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ba a modernizace zařízení pro sběr, třídění a úpravu odpadů (systémy pro sběr, svoz a separaci odpadů a bioodpadů, sběrné dvory a sklady KO, systémy pro separaci KO, nadzemní a podzemní kontejnery včetně související infrastruktur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2.2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ba a modernizace zařízení pro materiálové využití odpadů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2.3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ba a modernizace zařízení na energetické využití odpadů a související infrastruktu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2.4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ba a modernizace zařízení pro nakládání s nebezpečnými odpady včetně zdravotnických odpadů (vyjma skládkován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cký cíl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3"/>
          <p:cNvSpPr/>
          <p:nvPr/>
        </p:nvSpPr>
        <p:spPr>
          <a:xfrm>
            <a:off x="611280" y="1844640"/>
            <a:ext cx="79214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orované ak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3.1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Rekultivace starých skládek (technicky nedostatečně zabezpečený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kultivace starých skládek technicky nezabezpečených, které byly provozovány před účinností zákona č. 238/1991 Sb. nebo nejpozději v termínu a způsobem dle § 15 odst. 1 a 2 zákona č. 238/1991 S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cký cíl 3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4"/>
          <p:cNvSpPr/>
          <p:nvPr/>
        </p:nvSpPr>
        <p:spPr>
          <a:xfrm>
            <a:off x="611280" y="1989000"/>
            <a:ext cx="79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orované ak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4.1.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ntarizace kontaminovaných a potenciálně kontaminovaných míst, kategorizace priorit kontaminovaných míst podle závaž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4.2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ůzkumných prací (včetně doprůzkumů), analýzy riz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ktivita 3.4.3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nace vážně kontaminovaných loka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43:27Z</dcterms:created>
  <dc:creator>mhumplik</dc:creator>
  <dc:description/>
  <dc:language>en-US</dc:language>
  <cp:lastModifiedBy>Jiroutova Martina</cp:lastModifiedBy>
  <cp:lastPrinted>2015-01-21T08:14:13Z</cp:lastPrinted>
  <dcterms:modified xsi:type="dcterms:W3CDTF">2015-06-16T12:12:15Z</dcterms:modified>
  <cp:revision>279</cp:revision>
  <dc:subject/>
  <dc:title>Toto je pouze slepý název prezentace</dc:title>
</cp:coreProperties>
</file>